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sting.wav" ContentType="audio/x-wav"/>
  <Override PartName="/ppt/media/drumroll.wav" ContentType="audio/x-wav"/>
  <Override PartName="/ppt/media/09.%20Who%20Correct.wav" ContentType="audio/x-wav"/>
  <Override PartName="/ppt/media/Tarda.wav" ContentType="audio/x-wav"/>
  <Override PartName="/ppt/media/cashreg.wav" ContentType="audio/x-wav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  <p:sldId id="305" r:id="rId56"/>
    <p:sldId id="306" r:id="rId57"/>
    <p:sldId id="307" r:id="rId58"/>
    <p:sldId id="308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slide" Target="slides/slide50.xml"/><Relationship Id="rId57" Type="http://schemas.openxmlformats.org/officeDocument/2006/relationships/slide" Target="slides/slide51.xml"/><Relationship Id="rId58" Type="http://schemas.openxmlformats.org/officeDocument/2006/relationships/slide" Target="slides/slide52.xml"/><Relationship Id="rId59" Type="http://schemas.openxmlformats.org/officeDocument/2006/relationships/slide" Target="slides/slide53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ACCBC-7DC0-4869-9C01-A4B189EC7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E49E9-4716-429E-A3BC-7B798B48C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026C9-B8D8-4701-B67B-8EE18B448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9BEAA-7A8C-468D-927C-6C305B9C6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59BB0-8890-407B-B93B-E035E5ED0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A258E-9F05-4AEC-9375-18BB8D15A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B25EE-4B0D-463A-9557-DCB3BE38F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65486-3351-4515-9711-114EDB40D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4F3BB-0C12-4B65-BD41-4C5EE9D12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685800" y="1827360"/>
            <a:ext cx="7772400" cy="75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268C2-3747-41ED-B0AD-04CCF459B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6127D-F96C-4704-B2E1-742AF8466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A8678-5AB2-42F0-823A-86C8B505D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E0F0E-B5CC-45F9-AE59-96FCC2E4A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E4C65-CE75-40AD-9888-69AA2F91E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48127-1324-4832-BD5F-7DD6312BA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F24F4-2E66-4B2E-B710-140816182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3ABEE-A10C-469C-8A1A-579E18299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AF4747-3A78-4780-A884-6BBC21F8B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DE1B6D-AD8B-496B-82E5-62EFDB0EB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8E116F-4498-44BE-B29E-FE3994CD3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A853CA-4289-4281-8CFE-7FDA94D41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0AE7ED-144A-4AAF-B14D-317A94246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EC45F-E99B-42B5-BA40-817B5B724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ubTitle"/>
          </p:nvPr>
        </p:nvSpPr>
        <p:spPr>
          <a:xfrm>
            <a:off x="685800" y="1827360"/>
            <a:ext cx="7772400" cy="75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060686-59D8-4CC6-9FF2-688EFF8B1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986A41-5FA5-45DB-A748-33A484821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5A579F-1B0F-48D7-BB8C-4D325F8E1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4BC360-3590-40FB-BDC8-204E2818E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45BF0E-C315-4C5E-B637-3A4BF5AA5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0E195C-98EA-4B26-98D7-C71E9704E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A066D6-D3BC-4D80-8EC0-7A933C720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C5EA52-C990-4E21-AFA7-326A7E880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926C17-4786-49E0-A3E2-FA5F6F393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7F1F8E-AF39-4B8E-85F0-3913AAFB9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F013F-C650-4699-ADC5-6DE337C3B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ED2E85-045C-422D-8BBA-157D78C6E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58E4FF-6E1A-4400-B32D-D35304C29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subTitle"/>
          </p:nvPr>
        </p:nvSpPr>
        <p:spPr>
          <a:xfrm>
            <a:off x="685800" y="1827360"/>
            <a:ext cx="7772400" cy="75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55AEF4-617B-4B8F-AF3D-39ACC5197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EE64E6-4A64-44F4-96DD-0AAD6AFB1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C55CF7-F9E3-4DAF-9F4B-231592754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871810-CF15-4FE5-925A-18A7B3497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71851A-C704-46C9-A913-8F3D0CC0B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42C2DA-64A6-48BE-8E95-6899A066D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65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66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877B9B-BF47-4EB7-A988-F3E538BC2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C45099-BED3-4526-A5EA-B562E86FA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B969A-F0AD-4312-B2CA-F0E2E14EC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179256-5236-4E76-B4A8-D61E5B663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59F7A6-6862-4A4E-B376-672062015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5D6EA5-7DC7-4120-81E0-B8B16C322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54CEDF-EFB2-407A-8001-2CBA316FD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685800" y="1827360"/>
            <a:ext cx="7772400" cy="75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2CF492-4E99-48E9-8DA2-8D591530E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B94355-B24C-4257-BF64-B145EFB6B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A3E508-E857-425F-9E03-6EE8B457C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785344-6215-4C00-B520-5BA0CAF9A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2BC96A-B3A4-4C40-A963-1769D5D92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D69484-AB74-4837-B0E6-7A6EBC989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827360"/>
            <a:ext cx="7772400" cy="75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8BEDA-69A3-4AFF-A42E-2DB5BCB61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F4C031-7FF7-4127-AAAC-40A1ABC59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1C847-604E-4F19-89C8-BCCABAEA9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3DE98-6FE1-40B0-8DA0-DD057E01F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19BD4-E307-4501-BFDB-ABF783872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19571-5647-44DF-8388-1C8CA900453D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42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43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46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49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52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53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56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57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9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60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2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63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5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66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8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69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1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72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4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75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7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78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0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3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114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6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117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9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1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4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125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7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128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0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131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2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3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134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5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6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137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9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140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1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2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43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4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5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46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8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49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0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51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52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3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54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AB03B-6B87-478F-9265-1A42C969B095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7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218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219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1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222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223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224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5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26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227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228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9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30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231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2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33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234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5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36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237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39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240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1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42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43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45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46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7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84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85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6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87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88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9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90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92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93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4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95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96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7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98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99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0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01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302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3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04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305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6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07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308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9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10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311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2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13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314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5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16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317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8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19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320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1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22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323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4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325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326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327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9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0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1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2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3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34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35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336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F5254-1CD8-4D91-8DF5-F7F92FFD26E7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1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392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393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5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396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8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399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1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402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403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5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406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407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8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09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410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1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12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413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4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15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416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7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18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419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0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21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422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3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24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425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6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27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428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9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30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31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2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33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4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5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36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37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8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39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40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1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42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443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4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45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446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7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48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449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0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51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452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3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54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455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6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57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458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9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60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461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2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63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464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5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66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467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8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69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0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71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472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3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74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475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6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77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478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9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80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481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2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83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484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5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86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487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8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89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490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1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92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493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4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95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496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7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98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499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0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01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502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3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504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18950-0955-4FE4-A772-FB4CAC6DF8C8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7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568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569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1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572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573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574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5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76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577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578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79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580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581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82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583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584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85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586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587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88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589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590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91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592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593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94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595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596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97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598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599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00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601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602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03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604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605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06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607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608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09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610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611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12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613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614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15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616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617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18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619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620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21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622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623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24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625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626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27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628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629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0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631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632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3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634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635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6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637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638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9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640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1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42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643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44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645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646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47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648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649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50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651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652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53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654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655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56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657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658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59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660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661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62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663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664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65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666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667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68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669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670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71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672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673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74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675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676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677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8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9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0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1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2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3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84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85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686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3A338-6E59-4975-970D-25B69B29A525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wmf"/><Relationship Id="rId6" Type="http://schemas.openxmlformats.org/officeDocument/2006/relationships/image" Target="../media/image3.wmf"/><Relationship Id="rId7" Type="http://schemas.openxmlformats.org/officeDocument/2006/relationships/audio" Target="../media/sting.wav"/><Relationship Id="rId8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5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push.wav" TargetMode="External"/><Relationship Id="rId2" Type="http://schemas.openxmlformats.org/officeDocument/2006/relationships/hyperlink" Target="file:///tmp/home/.config/libreoffice/4/user/gallery/push.wav" TargetMode="External"/><Relationship Id="rId3" Type="http://schemas.openxmlformats.org/officeDocument/2006/relationships/hyperlink" Target="file:///tmp/home/.config/libreoffice/4/user/gallery/push.wav" TargetMode="External"/><Relationship Id="rId4" Type="http://schemas.openxmlformats.org/officeDocument/2006/relationships/image" Target="../media/image2.wmf"/><Relationship Id="rId5" Type="http://schemas.openxmlformats.org/officeDocument/2006/relationships/audio" Target="../media/09.%20Who%20Correct.wav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audio" Target="../media/Tarda.wav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50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push.wav" TargetMode="External"/><Relationship Id="rId2" Type="http://schemas.openxmlformats.org/officeDocument/2006/relationships/hyperlink" Target="file:///tmp/home/.config/libreoffice/4/user/gallery/push.wav" TargetMode="External"/><Relationship Id="rId3" Type="http://schemas.openxmlformats.org/officeDocument/2006/relationships/hyperlink" Target="file:///tmp/home/.config/libreoffice/4/user/gallery/push.wav" TargetMode="External"/><Relationship Id="rId4" Type="http://schemas.openxmlformats.org/officeDocument/2006/relationships/image" Target="../media/image2.wmf"/><Relationship Id="rId5" Type="http://schemas.openxmlformats.org/officeDocument/2006/relationships/audio" Target="../media/09.%20Who%20Correct.wav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audio" Target="../media/Tarda.wav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50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push.wav" TargetMode="External"/><Relationship Id="rId2" Type="http://schemas.openxmlformats.org/officeDocument/2006/relationships/hyperlink" Target="file:///tmp/home/.config/libreoffice/4/user/gallery/push.wav" TargetMode="External"/><Relationship Id="rId3" Type="http://schemas.openxmlformats.org/officeDocument/2006/relationships/hyperlink" Target="file:///tmp/home/.config/libreoffice/4/user/gallery/push.wav" TargetMode="External"/><Relationship Id="rId4" Type="http://schemas.openxmlformats.org/officeDocument/2006/relationships/image" Target="../media/image2.wmf"/><Relationship Id="rId5" Type="http://schemas.openxmlformats.org/officeDocument/2006/relationships/audio" Target="../media/09.%20Who%20Correct.wav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26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audio" Target="../media/Tarda.wav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50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51.xml"/><Relationship Id="rId2" Type="http://schemas.openxmlformats.org/officeDocument/2006/relationships/hyperlink" Target="file:///tmp/home/.config/libreoffice/4/user/gallery/push.wav" TargetMode="External"/><Relationship Id="rId3" Type="http://schemas.openxmlformats.org/officeDocument/2006/relationships/hyperlink" Target="file:///tmp/home/.config/libreoffice/4/user/gallery/push.wav" TargetMode="External"/><Relationship Id="rId4" Type="http://schemas.openxmlformats.org/officeDocument/2006/relationships/hyperlink" Target="file:///tmp/home/.config/libreoffice/4/user/gallery/push.wav" TargetMode="External"/><Relationship Id="rId5" Type="http://schemas.openxmlformats.org/officeDocument/2006/relationships/image" Target="../media/image2.wmf"/><Relationship Id="rId6" Type="http://schemas.openxmlformats.org/officeDocument/2006/relationships/audio" Target="../media/09.%20Who%20Correct.wav"/><Relationship Id="rId7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audio" Target="../media/Tarda.wav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50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51.xml"/><Relationship Id="rId2" Type="http://schemas.openxmlformats.org/officeDocument/2006/relationships/hyperlink" Target="file:///tmp/home/.config/libreoffice/4/user/gallery/push.wav" TargetMode="External"/><Relationship Id="rId3" Type="http://schemas.openxmlformats.org/officeDocument/2006/relationships/hyperlink" Target="file:///tmp/home/.config/libreoffice/4/user/gallery/push.wav" TargetMode="External"/><Relationship Id="rId4" Type="http://schemas.openxmlformats.org/officeDocument/2006/relationships/hyperlink" Target="file:///tmp/home/.config/libreoffice/4/user/gallery/push.wav" TargetMode="External"/><Relationship Id="rId5" Type="http://schemas.openxmlformats.org/officeDocument/2006/relationships/audio" Target="../media/09.%20Who%20Correct.wav"/><Relationship Id="rId6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audio" Target="../media/Tarda.wav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push.wav" TargetMode="External"/><Relationship Id="rId2" Type="http://schemas.openxmlformats.org/officeDocument/2006/relationships/hyperlink" Target="file:///tmp/home/.config/libreoffice/4/user/gallery/push.wav" TargetMode="External"/><Relationship Id="rId3" Type="http://schemas.openxmlformats.org/officeDocument/2006/relationships/hyperlink" Target="file:///tmp/home/.config/libreoffice/4/user/gallery/push.wav" TargetMode="External"/><Relationship Id="rId4" Type="http://schemas.openxmlformats.org/officeDocument/2006/relationships/image" Target="../media/image2.wmf"/><Relationship Id="rId5" Type="http://schemas.openxmlformats.org/officeDocument/2006/relationships/audio" Target="../media/09.%20Who%20Correct.wav"/><Relationship Id="rId6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5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push.wav" TargetMode="External"/><Relationship Id="rId2" Type="http://schemas.openxmlformats.org/officeDocument/2006/relationships/slide" Target="slide51.xml"/><Relationship Id="rId3" Type="http://schemas.openxmlformats.org/officeDocument/2006/relationships/hyperlink" Target="file:///tmp/home/.config/libreoffice/4/user/gallery/push.wav" TargetMode="External"/><Relationship Id="rId4" Type="http://schemas.openxmlformats.org/officeDocument/2006/relationships/hyperlink" Target="file:///tmp/home/.config/libreoffice/4/user/gallery/push.wav" TargetMode="External"/><Relationship Id="rId5" Type="http://schemas.openxmlformats.org/officeDocument/2006/relationships/image" Target="../media/image2.wmf"/><Relationship Id="rId6" Type="http://schemas.openxmlformats.org/officeDocument/2006/relationships/audio" Target="../media/09.%20Who%20Correct.wav"/><Relationship Id="rId7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audio" Target="../media/Tarda.wav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50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push.wav" TargetMode="External"/><Relationship Id="rId2" Type="http://schemas.openxmlformats.org/officeDocument/2006/relationships/slide" Target="slide51.xml"/><Relationship Id="rId3" Type="http://schemas.openxmlformats.org/officeDocument/2006/relationships/hyperlink" Target="file:///tmp/home/.config/libreoffice/4/user/gallery/push.wav" TargetMode="External"/><Relationship Id="rId4" Type="http://schemas.openxmlformats.org/officeDocument/2006/relationships/hyperlink" Target="file:///tmp/home/.config/libreoffice/4/user/gallery/push.wav" TargetMode="External"/><Relationship Id="rId5" Type="http://schemas.openxmlformats.org/officeDocument/2006/relationships/image" Target="../media/image2.wmf"/><Relationship Id="rId6" Type="http://schemas.openxmlformats.org/officeDocument/2006/relationships/audio" Target="../media/09.%20Who%20Correct.wav"/><Relationship Id="rId7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audio" Target="../media/Tarda.wav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50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push.wav" TargetMode="External"/><Relationship Id="rId2" Type="http://schemas.openxmlformats.org/officeDocument/2006/relationships/slide" Target="slide51.xml"/><Relationship Id="rId3" Type="http://schemas.openxmlformats.org/officeDocument/2006/relationships/hyperlink" Target="file:///tmp/home/.config/libreoffice/4/user/gallery/push.wav" TargetMode="External"/><Relationship Id="rId4" Type="http://schemas.openxmlformats.org/officeDocument/2006/relationships/hyperlink" Target="file:///tmp/home/.config/libreoffice/4/user/gallery/push.wav" TargetMode="External"/><Relationship Id="rId5" Type="http://schemas.openxmlformats.org/officeDocument/2006/relationships/image" Target="../media/image2.wmf"/><Relationship Id="rId6" Type="http://schemas.openxmlformats.org/officeDocument/2006/relationships/audio" Target="../media/09.%20Who%20Correct.wav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image" Target="../media/image2.wmf"/><Relationship Id="rId3" Type="http://schemas.openxmlformats.org/officeDocument/2006/relationships/audio" Target="../media/Tarda.wav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audio" Target="../media/Tarda.wav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2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50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" Target="slide51.xml"/><Relationship Id="rId2" Type="http://schemas.openxmlformats.org/officeDocument/2006/relationships/hyperlink" Target="file:///tmp/home/.config/libreoffice/4/user/gallery/push.wav" TargetMode="External"/><Relationship Id="rId3" Type="http://schemas.openxmlformats.org/officeDocument/2006/relationships/hyperlink" Target="file:///tmp/home/.config/libreoffice/4/user/gallery/push.wav" TargetMode="External"/><Relationship Id="rId4" Type="http://schemas.openxmlformats.org/officeDocument/2006/relationships/hyperlink" Target="file:///tmp/home/.config/libreoffice/4/user/gallery/push.wav" TargetMode="External"/><Relationship Id="rId5" Type="http://schemas.openxmlformats.org/officeDocument/2006/relationships/image" Target="../media/image2.wmf"/><Relationship Id="rId6" Type="http://schemas.openxmlformats.org/officeDocument/2006/relationships/audio" Target="../media/09.%20Who%20Correct.wav"/><Relationship Id="rId7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audio" Target="../media/Tarda.wav"/><Relationship Id="rId3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2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50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push.wav" TargetMode="External"/><Relationship Id="rId2" Type="http://schemas.openxmlformats.org/officeDocument/2006/relationships/hyperlink" Target="file:///tmp/home/.config/libreoffice/4/user/gallery/push.wav" TargetMode="External"/><Relationship Id="rId3" Type="http://schemas.openxmlformats.org/officeDocument/2006/relationships/hyperlink" Target="file:///tmp/home/.config/libreoffice/4/user/gallery/push.wav" TargetMode="External"/><Relationship Id="rId4" Type="http://schemas.openxmlformats.org/officeDocument/2006/relationships/image" Target="../media/image2.wmf"/><Relationship Id="rId5" Type="http://schemas.openxmlformats.org/officeDocument/2006/relationships/audio" Target="../media/09.%20Who%20Correct.wav"/><Relationship Id="rId6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audio" Target="../media/Tarda.wav"/><Relationship Id="rId3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2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push.wav" TargetMode="External"/><Relationship Id="rId2" Type="http://schemas.openxmlformats.org/officeDocument/2006/relationships/hyperlink" Target="file:///tmp/home/.config/libreoffice/4/user/gallery/push.wav" TargetMode="External"/><Relationship Id="rId3" Type="http://schemas.openxmlformats.org/officeDocument/2006/relationships/hyperlink" Target="file:///tmp/home/.config/libreoffice/4/user/gallery/push.wav" TargetMode="External"/><Relationship Id="rId4" Type="http://schemas.openxmlformats.org/officeDocument/2006/relationships/image" Target="../media/image2.wmf"/><Relationship Id="rId5" Type="http://schemas.openxmlformats.org/officeDocument/2006/relationships/audio" Target="../media/09.%20Who%20Correct.wav"/><Relationship Id="rId6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audio" Target="../media/Tarda.wav"/><Relationship Id="rId3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audio" Target="../media/cashreg.wav"/><Relationship Id="rId6" Type="http://schemas.openxmlformats.org/officeDocument/2006/relationships/audio" Target="../media/Tarda.wav"/><Relationship Id="rId7" Type="http://schemas.openxmlformats.org/officeDocument/2006/relationships/audio" Target="../media/sting.wav"/><Relationship Id="rId8" Type="http://schemas.openxmlformats.org/officeDocument/2006/relationships/slideLayout" Target="../slideLayouts/slideLayout26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50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push.wav" TargetMode="External"/><Relationship Id="rId2" Type="http://schemas.openxmlformats.org/officeDocument/2006/relationships/hyperlink" Target="file:///tmp/home/.config/libreoffice/4/user/gallery/push.wav" TargetMode="External"/><Relationship Id="rId3" Type="http://schemas.openxmlformats.org/officeDocument/2006/relationships/hyperlink" Target="file:///tmp/home/.config/libreoffice/4/user/gallery/push.wav" TargetMode="External"/><Relationship Id="rId4" Type="http://schemas.openxmlformats.org/officeDocument/2006/relationships/image" Target="../media/image2.wmf"/><Relationship Id="rId5" Type="http://schemas.openxmlformats.org/officeDocument/2006/relationships/audio" Target="../media/09.%20Who%20Correct.wav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audio" Target="../media/Tarda.wav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742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5332320" cy="396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3" name="" descr=""/>
            <p:cNvPicPr/>
            <p:nvPr/>
          </p:nvPicPr>
          <p:blipFill>
            <a:blip r:embed="rId2"/>
            <a:srcRect l="0" t="0" r="0" b="26912"/>
            <a:stretch/>
          </p:blipFill>
          <p:spPr>
            <a:xfrm>
              <a:off x="0" y="3962520"/>
              <a:ext cx="5332320" cy="289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4" name="" descr=""/>
            <p:cNvPicPr/>
            <p:nvPr/>
          </p:nvPicPr>
          <p:blipFill>
            <a:blip r:embed="rId3"/>
            <a:srcRect l="0" t="0" r="27039" b="0"/>
            <a:stretch/>
          </p:blipFill>
          <p:spPr>
            <a:xfrm>
              <a:off x="5315040" y="0"/>
              <a:ext cx="3828960" cy="396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5" name="" descr=""/>
            <p:cNvPicPr/>
            <p:nvPr/>
          </p:nvPicPr>
          <p:blipFill>
            <a:blip r:embed="rId4"/>
            <a:srcRect l="0" t="0" r="27039" b="26902"/>
            <a:stretch/>
          </p:blipFill>
          <p:spPr>
            <a:xfrm>
              <a:off x="5315040" y="3962520"/>
              <a:ext cx="3828960" cy="2895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46" name=""/>
          <p:cNvSpPr txBox="1"/>
          <p:nvPr/>
        </p:nvSpPr>
        <p:spPr>
          <a:xfrm>
            <a:off x="641520" y="739800"/>
            <a:ext cx="7839000" cy="163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99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Ravie"/>
              </a:rPr>
              <a:t>Who Wants To Be A</a:t>
            </a:r>
            <a:endParaRPr b="1" lang="en-US" sz="4800" spc="1" strike="noStrike">
              <a:ln w="19080">
                <a:solidFill>
                  <a:srgbClr val="ff0000"/>
                </a:solidFill>
                <a:miter/>
              </a:ln>
              <a:solidFill>
                <a:srgbClr val="ff99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Ravie"/>
              <a:ea typeface="Ravi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99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Ravie"/>
              </a:rPr>
              <a:t> </a:t>
            </a:r>
            <a:r>
              <a:rPr b="1" lang="en-US" sz="4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99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Ravie"/>
              </a:rPr>
              <a:t>Millionaire?</a:t>
            </a:r>
            <a:endParaRPr b="1" lang="en-US" sz="4800" spc="1" strike="noStrike">
              <a:ln w="19080">
                <a:solidFill>
                  <a:srgbClr val="ff0000"/>
                </a:solidFill>
                <a:miter/>
              </a:ln>
              <a:solidFill>
                <a:srgbClr val="ff99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Ravie"/>
              <a:ea typeface="Ravie"/>
            </a:endParaRPr>
          </a:p>
        </p:txBody>
      </p:sp>
      <p:sp>
        <p:nvSpPr>
          <p:cNvPr id="747" name=""/>
          <p:cNvSpPr txBox="1"/>
          <p:nvPr/>
        </p:nvSpPr>
        <p:spPr>
          <a:xfrm>
            <a:off x="2627280" y="5079960"/>
            <a:ext cx="4048200" cy="1085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99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Ravie"/>
              </a:rPr>
              <a:t>Fire of London </a:t>
            </a:r>
            <a:endParaRPr b="1" lang="en-US" sz="3200" spc="1" strike="noStrike">
              <a:ln w="19080">
                <a:solidFill>
                  <a:srgbClr val="ff0000"/>
                </a:solidFill>
                <a:miter/>
              </a:ln>
              <a:solidFill>
                <a:srgbClr val="ff99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Ravie"/>
              <a:ea typeface="Ravi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99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Ravie"/>
              </a:rPr>
              <a:t>Edition</a:t>
            </a:r>
            <a:endParaRPr b="1" lang="en-US" sz="3200" spc="1" strike="noStrike">
              <a:ln w="19080">
                <a:solidFill>
                  <a:srgbClr val="ff0000"/>
                </a:solidFill>
                <a:miter/>
              </a:ln>
              <a:solidFill>
                <a:srgbClr val="ff99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Ravie"/>
              <a:ea typeface="Ravie"/>
            </a:endParaRPr>
          </a:p>
        </p:txBody>
      </p:sp>
      <p:pic>
        <p:nvPicPr>
          <p:cNvPr id="748" name="" descr=""/>
          <p:cNvPicPr/>
          <p:nvPr/>
        </p:nvPicPr>
        <p:blipFill>
          <a:blip r:embed="rId5"/>
          <a:stretch/>
        </p:blipFill>
        <p:spPr>
          <a:xfrm>
            <a:off x="250920" y="4508640"/>
            <a:ext cx="1859040" cy="2089080"/>
          </a:xfrm>
          <a:prstGeom prst="rect">
            <a:avLst/>
          </a:prstGeom>
          <a:ln w="0">
            <a:noFill/>
          </a:ln>
        </p:spPr>
      </p:pic>
      <p:pic>
        <p:nvPicPr>
          <p:cNvPr id="749" name="" descr=""/>
          <p:cNvPicPr/>
          <p:nvPr/>
        </p:nvPicPr>
        <p:blipFill>
          <a:blip r:embed="rId6"/>
          <a:stretch/>
        </p:blipFill>
        <p:spPr>
          <a:xfrm>
            <a:off x="7454880" y="5479920"/>
            <a:ext cx="1438200" cy="11890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  <p:sndAc>
      <p:stSnd>
        <p:snd r:embed="rId7" name="sting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20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autoRev="1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" dur="2000" fill="hold"/>
                                        <p:tgtEl>
                                          <p:spTgt spid="74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autoRev="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" dur="2000" fill="hold"/>
                                        <p:tgtEl>
                                          <p:spTgt spid="74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4000"/>
                            </p:stCondLst>
                            <p:childTnLst>
                              <p:par>
                                <p:cTn id="18" nodeType="after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" dur="250" autoRev="1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66"/>
                                      </p:to>
                                    </p:animClr>
                                    <p:animClr clrSpc="rgb">
                                      <p:cBhvr>
                                        <p:cTn id="20" dur="250" autoRev="1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66"/>
                                      </p:to>
                                    </p:animClr>
                                    <p:set>
                                      <p:cBhvr>
                                        <p:cTn id="21" dur="250" autoRev="1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4500"/>
                            </p:stCondLst>
                            <p:childTnLst>
                              <p:par>
                                <p:cTn id="23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5500"/>
                            </p:stCondLst>
                            <p:childTnLst>
                              <p:par>
                                <p:cTn id="30" nodeType="after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" dur="250" autoRev="1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66"/>
                                      </p:to>
                                    </p:animClr>
                                    <p:animClr clrSpc="rgb">
                                      <p:cBhvr>
                                        <p:cTn id="32" dur="250" autoRev="1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66"/>
                                      </p:to>
                                    </p:animClr>
                                    <p:set>
                                      <p:cBhvr>
                                        <p:cTn id="33" dur="250" autoRev="1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"/>
          <p:cNvSpPr/>
          <p:nvPr/>
        </p:nvSpPr>
        <p:spPr>
          <a:xfrm>
            <a:off x="609480" y="2057400"/>
            <a:ext cx="8001000" cy="2743200"/>
          </a:xfrm>
          <a:prstGeom prst="hexagon">
            <a:avLst>
              <a:gd name="adj" fmla="val 7130"/>
              <a:gd name="vf" fmla="val 115470"/>
            </a:avLst>
          </a:prstGeom>
          <a:noFill/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Maiandra GD"/>
              </a:rPr>
              <a:t>Question 3</a:t>
            </a:r>
            <a:endParaRPr b="0" lang="en-US" sz="8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46" name=""/>
          <p:cNvSpPr/>
          <p:nvPr/>
        </p:nvSpPr>
        <p:spPr>
          <a:xfrm flipH="1">
            <a:off x="-360" y="35053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 flipH="1">
            <a:off x="8610480" y="35053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drumroll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Maiandra GD"/>
              </a:rPr>
              <a:t>How did the fire start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4400" spc="-1" strike="noStrike">
                <a:solidFill>
                  <a:srgbClr val="ffffff"/>
                </a:solidFill>
                <a:latin typeface="Maiandra GD"/>
              </a:rPr>
              <a:t>By burning woo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4400" spc="-1" strike="noStrike">
                <a:solidFill>
                  <a:srgbClr val="ffffff"/>
                </a:solidFill>
                <a:latin typeface="Maiandra GD"/>
              </a:rPr>
              <a:t>With a cigaret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Maiandra GD"/>
              </a:rPr>
              <a:t>By playing with fi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4400" spc="-1" strike="noStrike">
                <a:solidFill>
                  <a:srgbClr val="ffffff"/>
                </a:solidFill>
                <a:latin typeface="Maiandra GD"/>
              </a:rPr>
              <a:t>Left the cooker 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8686800" y="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8686800" y="63244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>
            <a:hlinkClick r:id="rId1"/>
          </p:cNvPr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noFill/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>
            <a:hlinkClick r:id="rId2"/>
          </p:cNvPr>
          <p:cNvSpPr/>
          <p:nvPr/>
        </p:nvSpPr>
        <p:spPr>
          <a:xfrm>
            <a:off x="533520" y="4724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noFill/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>
            <a:hlinkClick r:id="" action="ppaction://hlinkshowjump?jump=nextslide"/>
          </p:cNvPr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noFill/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>
            <a:hlinkClick r:id="rId3"/>
          </p:cNvPr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noFill/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7" name="" descr=""/>
          <p:cNvPicPr/>
          <p:nvPr/>
        </p:nvPicPr>
        <p:blipFill>
          <a:blip r:embed="rId4"/>
          <a:stretch/>
        </p:blipFill>
        <p:spPr>
          <a:xfrm>
            <a:off x="7559640" y="1700280"/>
            <a:ext cx="684360" cy="768240"/>
          </a:xfrm>
          <a:prstGeom prst="rect">
            <a:avLst/>
          </a:prstGeom>
          <a:ln w="0">
            <a:noFill/>
          </a:ln>
        </p:spPr>
      </p:pic>
    </p:spTree>
  </p:cSld>
  <p:transition>
    <p:zoom dir="out"/>
    <p:sndAc>
      <p:stSnd>
        <p:snd r:embed="rId5" name="09.%20Who%20Correct.wav"/>
      </p:stSnd>
    </p:sndAc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8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8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8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8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8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8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8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8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539640" y="5734080"/>
            <a:ext cx="8153640" cy="838080"/>
          </a:xfrm>
          <a:prstGeom prst="hexagon">
            <a:avLst>
              <a:gd name="adj" fmla="val 30898"/>
              <a:gd name="vf" fmla="val 115470"/>
            </a:avLst>
          </a:prstGeom>
          <a:solidFill>
            <a:srgbClr val="00cc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539640" y="4724280"/>
            <a:ext cx="8153640" cy="838440"/>
          </a:xfrm>
          <a:prstGeom prst="hexagon">
            <a:avLst>
              <a:gd name="adj" fmla="val 30885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Maiandra GD"/>
              </a:rPr>
              <a:t>How did the fire start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4400" spc="-1" strike="noStrike">
                <a:solidFill>
                  <a:srgbClr val="ffffff"/>
                </a:solidFill>
                <a:latin typeface="Maiandra GD"/>
              </a:rPr>
              <a:t>By burning woo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4400" spc="-1" strike="noStrike">
                <a:solidFill>
                  <a:srgbClr val="ffffff"/>
                </a:solidFill>
                <a:latin typeface="Maiandra GD"/>
              </a:rPr>
              <a:t>With a cigaret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Maiandra GD"/>
              </a:rPr>
              <a:t>By playing with fi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4400" spc="-1" strike="noStrike">
                <a:solidFill>
                  <a:srgbClr val="ffffff"/>
                </a:solidFill>
                <a:latin typeface="Maiandra GD"/>
              </a:rPr>
              <a:t>Left the cooker 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5" name="" descr=""/>
          <p:cNvPicPr/>
          <p:nvPr/>
        </p:nvPicPr>
        <p:blipFill>
          <a:blip r:embed="rId1"/>
          <a:stretch/>
        </p:blipFill>
        <p:spPr>
          <a:xfrm>
            <a:off x="7559640" y="1700280"/>
            <a:ext cx="684360" cy="768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/>
          <p:nvPr/>
        </p:nvSpPr>
        <p:spPr>
          <a:xfrm>
            <a:off x="609480" y="2514600"/>
            <a:ext cx="8001000" cy="1905120"/>
          </a:xfrm>
          <a:prstGeom prst="hexagon">
            <a:avLst>
              <a:gd name="adj" fmla="val 10266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ffff"/>
                </a:solidFill>
                <a:latin typeface="Maiandra GD"/>
              </a:rPr>
              <a:t>£500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 flipH="1">
            <a:off x="-360" y="35053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 flipH="1">
            <a:off x="8610480" y="35053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0" name="" descr=""/>
          <p:cNvPicPr/>
          <p:nvPr/>
        </p:nvPicPr>
        <p:blipFill>
          <a:blip r:embed="rId1"/>
          <a:stretch/>
        </p:blipFill>
        <p:spPr>
          <a:xfrm>
            <a:off x="6948360" y="3213000"/>
            <a:ext cx="1222560" cy="1011240"/>
          </a:xfrm>
          <a:prstGeom prst="rect">
            <a:avLst/>
          </a:prstGeom>
          <a:ln w="0">
            <a:noFill/>
          </a:ln>
        </p:spPr>
      </p:pic>
    </p:spTree>
  </p:cSld>
  <p:transition>
    <p:zoom dir="out"/>
    <p:sndAc>
      <p:stSnd>
        <p:snd r:embed="rId2" name="cashreg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"/>
          <p:cNvSpPr/>
          <p:nvPr/>
        </p:nvSpPr>
        <p:spPr>
          <a:xfrm>
            <a:off x="609480" y="2057400"/>
            <a:ext cx="8001000" cy="2743200"/>
          </a:xfrm>
          <a:prstGeom prst="hexagon">
            <a:avLst>
              <a:gd name="adj" fmla="val 7130"/>
              <a:gd name="vf" fmla="val 115470"/>
            </a:avLst>
          </a:prstGeom>
          <a:noFill/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Maiandra GD"/>
              </a:rPr>
              <a:t>Question 4</a:t>
            </a:r>
            <a:endParaRPr b="0" lang="en-US" sz="8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93" name=""/>
          <p:cNvSpPr/>
          <p:nvPr/>
        </p:nvSpPr>
        <p:spPr>
          <a:xfrm flipH="1">
            <a:off x="-360" y="35053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 flipH="1">
            <a:off x="8610480" y="35053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drumroll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Maiandra GD"/>
              </a:rPr>
              <a:t>How long did the fire burn for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4400" spc="-1" strike="noStrike">
                <a:solidFill>
                  <a:srgbClr val="ffffff"/>
                </a:solidFill>
                <a:latin typeface="Maiandra GD"/>
              </a:rPr>
              <a:t>3 day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4400" spc="-1" strike="noStrike">
                <a:solidFill>
                  <a:srgbClr val="ffffff"/>
                </a:solidFill>
                <a:latin typeface="Maiandra GD"/>
              </a:rPr>
              <a:t>5 day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Maiandra GD"/>
              </a:rPr>
              <a:t>7 day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4400" spc="-1" strike="noStrike">
                <a:solidFill>
                  <a:srgbClr val="ffffff"/>
                </a:solidFill>
                <a:latin typeface="Maiandra GD"/>
              </a:rPr>
              <a:t>9 day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8686800" y="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8686800" y="63244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>
            <a:hlinkClick r:id="" action="ppaction://hlinkshowjump?jump=nextslide"/>
          </p:cNvPr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noFill/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>
            <a:hlinkClick r:id="rId1"/>
          </p:cNvPr>
          <p:cNvSpPr/>
          <p:nvPr/>
        </p:nvSpPr>
        <p:spPr>
          <a:xfrm>
            <a:off x="533520" y="4724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noFill/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>
            <a:hlinkClick r:id="rId2"/>
          </p:cNvPr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noFill/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>
            <a:hlinkClick r:id="rId3"/>
          </p:cNvPr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noFill/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4" name="" descr=""/>
          <p:cNvPicPr/>
          <p:nvPr/>
        </p:nvPicPr>
        <p:blipFill>
          <a:blip r:embed="rId4"/>
          <a:stretch/>
        </p:blipFill>
        <p:spPr>
          <a:xfrm>
            <a:off x="7432560" y="1557360"/>
            <a:ext cx="811440" cy="911160"/>
          </a:xfrm>
          <a:prstGeom prst="rect">
            <a:avLst/>
          </a:prstGeom>
          <a:ln w="0">
            <a:noFill/>
          </a:ln>
        </p:spPr>
      </p:pic>
    </p:spTree>
  </p:cSld>
  <p:transition>
    <p:zoom dir="out"/>
    <p:sndAc>
      <p:stSnd>
        <p:snd r:embed="rId5" name="09.%20Who%20Correct.wav"/>
      </p:stSnd>
    </p:sndAc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8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8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8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8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8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8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8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8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539640" y="4724280"/>
            <a:ext cx="8153640" cy="838440"/>
          </a:xfrm>
          <a:prstGeom prst="hexagon">
            <a:avLst>
              <a:gd name="adj" fmla="val 30885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539640" y="3743280"/>
            <a:ext cx="8153640" cy="838080"/>
          </a:xfrm>
          <a:prstGeom prst="hexagon">
            <a:avLst>
              <a:gd name="adj" fmla="val 30898"/>
              <a:gd name="vf" fmla="val 115470"/>
            </a:avLst>
          </a:prstGeom>
          <a:solidFill>
            <a:srgbClr val="00cc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Maiandra GD"/>
              </a:rPr>
              <a:t>How long did the fire burn for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4400" spc="-1" strike="noStrike">
                <a:solidFill>
                  <a:srgbClr val="ffffff"/>
                </a:solidFill>
                <a:latin typeface="Maiandra GD"/>
              </a:rPr>
              <a:t>3 day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4400" spc="-1" strike="noStrike">
                <a:solidFill>
                  <a:srgbClr val="ffffff"/>
                </a:solidFill>
                <a:latin typeface="Maiandra GD"/>
              </a:rPr>
              <a:t>5 day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Maiandra GD"/>
              </a:rPr>
              <a:t>7 day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4400" spc="-1" strike="noStrike">
                <a:solidFill>
                  <a:srgbClr val="ffffff"/>
                </a:solidFill>
                <a:latin typeface="Maiandra GD"/>
              </a:rPr>
              <a:t>9 day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2" name="" descr=""/>
          <p:cNvPicPr/>
          <p:nvPr/>
        </p:nvPicPr>
        <p:blipFill>
          <a:blip r:embed="rId1"/>
          <a:stretch/>
        </p:blipFill>
        <p:spPr>
          <a:xfrm>
            <a:off x="7432560" y="1557360"/>
            <a:ext cx="811440" cy="911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"/>
          <p:cNvSpPr/>
          <p:nvPr/>
        </p:nvSpPr>
        <p:spPr>
          <a:xfrm>
            <a:off x="609480" y="2514600"/>
            <a:ext cx="8001000" cy="1905120"/>
          </a:xfrm>
          <a:prstGeom prst="hexagon">
            <a:avLst>
              <a:gd name="adj" fmla="val 10266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ffff"/>
                </a:solidFill>
                <a:latin typeface="Maiandra GD"/>
              </a:rPr>
              <a:t>£1000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 flipH="1">
            <a:off x="-360" y="35053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 flipH="1">
            <a:off x="8610480" y="35053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7" name="" descr=""/>
          <p:cNvPicPr/>
          <p:nvPr/>
        </p:nvPicPr>
        <p:blipFill>
          <a:blip r:embed="rId1"/>
          <a:stretch/>
        </p:blipFill>
        <p:spPr>
          <a:xfrm>
            <a:off x="6948360" y="3213000"/>
            <a:ext cx="1222560" cy="1011240"/>
          </a:xfrm>
          <a:prstGeom prst="rect">
            <a:avLst/>
          </a:prstGeom>
          <a:ln w="0">
            <a:noFill/>
          </a:ln>
        </p:spPr>
      </p:pic>
    </p:spTree>
  </p:cSld>
  <p:transition>
    <p:zoom dir="out"/>
    <p:sndAc>
      <p:stSnd>
        <p:snd r:embed="rId2" name="cashreg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"/>
          <p:cNvSpPr/>
          <p:nvPr/>
        </p:nvSpPr>
        <p:spPr>
          <a:xfrm>
            <a:off x="609480" y="2057400"/>
            <a:ext cx="8001000" cy="2743200"/>
          </a:xfrm>
          <a:prstGeom prst="hexagon">
            <a:avLst>
              <a:gd name="adj" fmla="val 7130"/>
              <a:gd name="vf" fmla="val 115470"/>
            </a:avLst>
          </a:prstGeom>
          <a:noFill/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Maiandra GD"/>
              </a:rPr>
              <a:t>Question 5</a:t>
            </a:r>
            <a:endParaRPr b="0" lang="en-US" sz="8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40" name=""/>
          <p:cNvSpPr/>
          <p:nvPr/>
        </p:nvSpPr>
        <p:spPr>
          <a:xfrm flipH="1">
            <a:off x="-360" y="35053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 flipH="1">
            <a:off x="8610480" y="35053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drumroll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">
            <a:hlinkClick r:id="rId1"/>
          </p:cNvPr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noFill/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Maiandra GD"/>
              </a:rPr>
              <a:t>Why did the fire spread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4400" spc="-1" strike="noStrike">
                <a:solidFill>
                  <a:srgbClr val="ffffff"/>
                </a:solidFill>
                <a:latin typeface="Maiandra GD"/>
              </a:rPr>
              <a:t>Houses were sma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4400" spc="-1" strike="noStrike">
                <a:solidFill>
                  <a:srgbClr val="ffffff"/>
                </a:solidFill>
                <a:latin typeface="Maiandra GD"/>
              </a:rPr>
              <a:t>Houses were made of bric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300" spc="-1" strike="noStrike">
                <a:solidFill>
                  <a:srgbClr val="ffffff"/>
                </a:solidFill>
                <a:latin typeface="Maiandra GD"/>
              </a:rPr>
              <a:t>Houses were made of woo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4400" spc="-1" strike="noStrike">
                <a:solidFill>
                  <a:srgbClr val="ffffff"/>
                </a:solidFill>
                <a:latin typeface="Maiandra GD"/>
              </a:rPr>
              <a:t>Houses were made of sto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8686800" y="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8686800" y="63244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>
            <a:hlinkClick r:id="rId2"/>
          </p:cNvPr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noFill/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>
            <a:hlinkClick r:id="" action="ppaction://hlinkshowjump?jump=nextslide"/>
          </p:cNvPr>
          <p:cNvSpPr/>
          <p:nvPr/>
        </p:nvSpPr>
        <p:spPr>
          <a:xfrm>
            <a:off x="533520" y="4724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noFill/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>
            <a:hlinkClick r:id="rId3"/>
          </p:cNvPr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noFill/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1" name="" descr=""/>
          <p:cNvPicPr/>
          <p:nvPr/>
        </p:nvPicPr>
        <p:blipFill>
          <a:blip r:embed="rId4"/>
          <a:stretch/>
        </p:blipFill>
        <p:spPr>
          <a:xfrm>
            <a:off x="7559640" y="1700280"/>
            <a:ext cx="684360" cy="768240"/>
          </a:xfrm>
          <a:prstGeom prst="rect">
            <a:avLst/>
          </a:prstGeom>
          <a:ln w="0">
            <a:noFill/>
          </a:ln>
        </p:spPr>
      </p:pic>
    </p:spTree>
  </p:cSld>
  <p:transition>
    <p:zoom dir="out"/>
    <p:sndAc>
      <p:stSnd>
        <p:snd r:embed="rId5" name="09.%20Who%20Correct.wav"/>
      </p:stSnd>
    </p:sndAc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9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9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9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9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9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9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"/>
          <p:cNvSpPr/>
          <p:nvPr/>
        </p:nvSpPr>
        <p:spPr>
          <a:xfrm>
            <a:off x="609480" y="2057400"/>
            <a:ext cx="8001000" cy="2743200"/>
          </a:xfrm>
          <a:prstGeom prst="hexagon">
            <a:avLst>
              <a:gd name="adj" fmla="val 7130"/>
              <a:gd name="vf" fmla="val 115470"/>
            </a:avLst>
          </a:prstGeom>
          <a:noFill/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Maiandra GD"/>
              </a:rPr>
              <a:t>Question 1</a:t>
            </a:r>
            <a:endParaRPr b="0" lang="en-US" sz="8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2" name=""/>
          <p:cNvSpPr/>
          <p:nvPr/>
        </p:nvSpPr>
        <p:spPr>
          <a:xfrm flipH="1">
            <a:off x="-360" y="35053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 flipH="1">
            <a:off x="8610480" y="35053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drumroll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533520" y="4724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cc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Maiandra GD"/>
              </a:rPr>
              <a:t>Why did the fire spread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4400" spc="-1" strike="noStrike">
                <a:solidFill>
                  <a:srgbClr val="ffffff"/>
                </a:solidFill>
                <a:latin typeface="Maiandra GD"/>
              </a:rPr>
              <a:t>Houses were sma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4400" spc="-1" strike="noStrike">
                <a:solidFill>
                  <a:srgbClr val="ffffff"/>
                </a:solidFill>
                <a:latin typeface="Maiandra GD"/>
              </a:rPr>
              <a:t>Houses were made of bric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300" spc="-1" strike="noStrike">
                <a:solidFill>
                  <a:srgbClr val="ffffff"/>
                </a:solidFill>
                <a:latin typeface="Maiandra GD"/>
              </a:rPr>
              <a:t>Houses were made of woo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4400" spc="-1" strike="noStrike">
                <a:solidFill>
                  <a:srgbClr val="ffffff"/>
                </a:solidFill>
                <a:latin typeface="Maiandra GD"/>
              </a:rPr>
              <a:t>Houses were made of sto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9" name="" descr=""/>
          <p:cNvPicPr/>
          <p:nvPr/>
        </p:nvPicPr>
        <p:blipFill>
          <a:blip r:embed="rId1"/>
          <a:stretch/>
        </p:blipFill>
        <p:spPr>
          <a:xfrm>
            <a:off x="7559640" y="1700280"/>
            <a:ext cx="684360" cy="768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"/>
          <p:cNvSpPr/>
          <p:nvPr/>
        </p:nvSpPr>
        <p:spPr>
          <a:xfrm>
            <a:off x="609480" y="2514600"/>
            <a:ext cx="8001000" cy="1905120"/>
          </a:xfrm>
          <a:prstGeom prst="hexagon">
            <a:avLst>
              <a:gd name="adj" fmla="val 10266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ffff"/>
                </a:solidFill>
                <a:latin typeface="Maiandra GD"/>
              </a:rPr>
              <a:t>£2,000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 flipH="1">
            <a:off x="-360" y="35053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 flipH="1">
            <a:off x="8610480" y="35053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4" name="" descr=""/>
          <p:cNvPicPr/>
          <p:nvPr/>
        </p:nvPicPr>
        <p:blipFill>
          <a:blip r:embed="rId1"/>
          <a:stretch/>
        </p:blipFill>
        <p:spPr>
          <a:xfrm>
            <a:off x="6948360" y="3213000"/>
            <a:ext cx="1222560" cy="1011240"/>
          </a:xfrm>
          <a:prstGeom prst="rect">
            <a:avLst/>
          </a:prstGeom>
          <a:ln w="0">
            <a:noFill/>
          </a:ln>
        </p:spPr>
      </p:pic>
    </p:spTree>
  </p:cSld>
  <p:transition>
    <p:zoom dir="out"/>
    <p:sndAc>
      <p:stSnd>
        <p:snd r:embed="rId2" name="cashreg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"/>
          <p:cNvSpPr/>
          <p:nvPr/>
        </p:nvSpPr>
        <p:spPr>
          <a:xfrm>
            <a:off x="609480" y="2057400"/>
            <a:ext cx="8001000" cy="2743200"/>
          </a:xfrm>
          <a:prstGeom prst="hexagon">
            <a:avLst>
              <a:gd name="adj" fmla="val 7130"/>
              <a:gd name="vf" fmla="val 115470"/>
            </a:avLst>
          </a:prstGeom>
          <a:noFill/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Maiandra GD"/>
              </a:rPr>
              <a:t>Question 6</a:t>
            </a:r>
            <a:endParaRPr b="0" lang="en-US" sz="8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87" name=""/>
          <p:cNvSpPr/>
          <p:nvPr/>
        </p:nvSpPr>
        <p:spPr>
          <a:xfrm flipH="1">
            <a:off x="-360" y="35053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 flipH="1">
            <a:off x="8610480" y="35053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drumroll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Maiandra GD"/>
              </a:rPr>
              <a:t>Why did the fire stop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4400" spc="-1" strike="noStrike">
                <a:solidFill>
                  <a:srgbClr val="ffffff"/>
                </a:solidFill>
                <a:latin typeface="Maiandra GD"/>
              </a:rPr>
              <a:t>The wind died dow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4400" spc="-1" strike="noStrike">
                <a:solidFill>
                  <a:srgbClr val="ffffff"/>
                </a:solidFill>
                <a:latin typeface="Maiandra GD"/>
              </a:rPr>
              <a:t>All the houses were burn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Maiandra GD"/>
              </a:rPr>
              <a:t>The water put out the</a:t>
            </a:r>
            <a:r>
              <a:rPr b="0" lang="en-US" sz="4800" spc="-1" strike="noStrike">
                <a:solidFill>
                  <a:srgbClr val="ffffff"/>
                </a:solidFill>
                <a:latin typeface="Maiandra GD"/>
              </a:rPr>
              <a:t> fir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4400" spc="-1" strike="noStrike">
                <a:solidFill>
                  <a:srgbClr val="ffffff"/>
                </a:solidFill>
                <a:latin typeface="Maiandra GD"/>
              </a:rPr>
              <a:t>The rain put out the fir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8686800" y="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>
            <a:hlinkClick r:id="rId1" action="ppaction://hlinksldjump"/>
          </p:cNvPr>
          <p:cNvSpPr/>
          <p:nvPr/>
        </p:nvSpPr>
        <p:spPr>
          <a:xfrm>
            <a:off x="8686800" y="63244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>
            <a:hlinkClick r:id="rId2"/>
          </p:cNvPr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noFill/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>
            <a:hlinkClick r:id="rId3"/>
          </p:cNvPr>
          <p:cNvSpPr/>
          <p:nvPr/>
        </p:nvSpPr>
        <p:spPr>
          <a:xfrm>
            <a:off x="533520" y="4724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noFill/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>
            <a:hlinkClick r:id="rId4"/>
          </p:cNvPr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noFill/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>
            <a:hlinkClick r:id="" action="ppaction://hlinkshowjump?jump=nextslide"/>
          </p:cNvPr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noFill/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8" name="" descr=""/>
          <p:cNvPicPr/>
          <p:nvPr/>
        </p:nvPicPr>
        <p:blipFill>
          <a:blip r:embed="rId5"/>
          <a:stretch/>
        </p:blipFill>
        <p:spPr>
          <a:xfrm>
            <a:off x="7559640" y="1700280"/>
            <a:ext cx="684360" cy="768240"/>
          </a:xfrm>
          <a:prstGeom prst="rect">
            <a:avLst/>
          </a:prstGeom>
          <a:ln w="0">
            <a:noFill/>
          </a:ln>
        </p:spPr>
      </p:pic>
    </p:spTree>
  </p:cSld>
  <p:transition>
    <p:zoom dir="out"/>
    <p:sndAc>
      <p:stSnd>
        <p:snd r:embed="rId6" name="09.%20Who%20Correct.wav"/>
      </p:stSnd>
    </p:sndAc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9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9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9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9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9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9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9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9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"/>
          <p:cNvSpPr/>
          <p:nvPr/>
        </p:nvSpPr>
        <p:spPr>
          <a:xfrm>
            <a:off x="539640" y="4724280"/>
            <a:ext cx="8153640" cy="838440"/>
          </a:xfrm>
          <a:prstGeom prst="hexagon">
            <a:avLst>
              <a:gd name="adj" fmla="val 30885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539640" y="2735280"/>
            <a:ext cx="8153640" cy="838080"/>
          </a:xfrm>
          <a:prstGeom prst="hexagon">
            <a:avLst>
              <a:gd name="adj" fmla="val 30898"/>
              <a:gd name="vf" fmla="val 115470"/>
            </a:avLst>
          </a:prstGeom>
          <a:solidFill>
            <a:srgbClr val="00cc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Maiandra GD"/>
              </a:rPr>
              <a:t>Why did the fire stop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4400" spc="-1" strike="noStrike">
                <a:solidFill>
                  <a:srgbClr val="ffffff"/>
                </a:solidFill>
                <a:latin typeface="Maiandra GD"/>
              </a:rPr>
              <a:t>The wind died dow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4400" spc="-1" strike="noStrike">
                <a:solidFill>
                  <a:srgbClr val="ffffff"/>
                </a:solidFill>
                <a:latin typeface="Maiandra GD"/>
              </a:rPr>
              <a:t>All the houses were burn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Maiandra GD"/>
              </a:rPr>
              <a:t>The water put out the</a:t>
            </a:r>
            <a:r>
              <a:rPr b="0" lang="en-US" sz="4800" spc="-1" strike="noStrike">
                <a:solidFill>
                  <a:srgbClr val="ffffff"/>
                </a:solidFill>
                <a:latin typeface="Maiandra GD"/>
              </a:rPr>
              <a:t> fir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4400" spc="-1" strike="noStrike">
                <a:solidFill>
                  <a:srgbClr val="ffffff"/>
                </a:solidFill>
                <a:latin typeface="Maiandra GD"/>
              </a:rPr>
              <a:t>The rain put out the fir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6" name="" descr=""/>
          <p:cNvPicPr/>
          <p:nvPr/>
        </p:nvPicPr>
        <p:blipFill>
          <a:blip r:embed="rId1"/>
          <a:stretch/>
        </p:blipFill>
        <p:spPr>
          <a:xfrm>
            <a:off x="7559640" y="1700280"/>
            <a:ext cx="684360" cy="768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"/>
          <p:cNvSpPr/>
          <p:nvPr/>
        </p:nvSpPr>
        <p:spPr>
          <a:xfrm>
            <a:off x="609480" y="2514600"/>
            <a:ext cx="8001000" cy="1905120"/>
          </a:xfrm>
          <a:prstGeom prst="hexagon">
            <a:avLst>
              <a:gd name="adj" fmla="val 10266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ffff"/>
                </a:solidFill>
                <a:latin typeface="Maiandra GD"/>
              </a:rPr>
              <a:t>£4,000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 flipH="1">
            <a:off x="-360" y="35053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 flipH="1">
            <a:off x="8610480" y="35053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1" name="" descr=""/>
          <p:cNvPicPr/>
          <p:nvPr/>
        </p:nvPicPr>
        <p:blipFill>
          <a:blip r:embed="rId1"/>
          <a:stretch/>
        </p:blipFill>
        <p:spPr>
          <a:xfrm>
            <a:off x="6948360" y="3213000"/>
            <a:ext cx="1222560" cy="1011240"/>
          </a:xfrm>
          <a:prstGeom prst="rect">
            <a:avLst/>
          </a:prstGeom>
          <a:ln w="0">
            <a:noFill/>
          </a:ln>
        </p:spPr>
      </p:pic>
    </p:spTree>
  </p:cSld>
  <p:transition>
    <p:zoom dir="out"/>
    <p:sndAc>
      <p:stSnd>
        <p:snd r:embed="rId2" name="cashreg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"/>
          <p:cNvSpPr/>
          <p:nvPr/>
        </p:nvSpPr>
        <p:spPr>
          <a:xfrm>
            <a:off x="609480" y="2057400"/>
            <a:ext cx="8001000" cy="2743200"/>
          </a:xfrm>
          <a:prstGeom prst="hexagon">
            <a:avLst>
              <a:gd name="adj" fmla="val 7130"/>
              <a:gd name="vf" fmla="val 115470"/>
            </a:avLst>
          </a:prstGeom>
          <a:noFill/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Maiandra GD"/>
              </a:rPr>
              <a:t>Question 7</a:t>
            </a:r>
            <a:endParaRPr b="0" lang="en-US" sz="8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34" name=""/>
          <p:cNvSpPr/>
          <p:nvPr/>
        </p:nvSpPr>
        <p:spPr>
          <a:xfrm flipH="1">
            <a:off x="-360" y="35053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 flipH="1">
            <a:off x="8610480" y="35053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drumroll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Maiandra GD"/>
              </a:rPr>
              <a:t>When the fire started people escaped to the…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4400" spc="-1" strike="noStrike">
                <a:solidFill>
                  <a:srgbClr val="ffffff"/>
                </a:solidFill>
                <a:latin typeface="Maiandra GD"/>
              </a:rPr>
              <a:t>Fores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4400" spc="-1" strike="noStrike">
                <a:solidFill>
                  <a:srgbClr val="ffffff"/>
                </a:solidFill>
                <a:latin typeface="Maiandra GD"/>
              </a:rPr>
              <a:t>Fa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Maiandra GD"/>
              </a:rPr>
              <a:t>Church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4400" spc="-1" strike="noStrike">
                <a:solidFill>
                  <a:srgbClr val="ffffff"/>
                </a:solidFill>
                <a:latin typeface="Maiandra GD"/>
              </a:rPr>
              <a:t>Sho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8686800" y="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>
            <a:hlinkClick r:id="rId1" action="ppaction://hlinksldjump"/>
          </p:cNvPr>
          <p:cNvSpPr/>
          <p:nvPr/>
        </p:nvSpPr>
        <p:spPr>
          <a:xfrm>
            <a:off x="8686800" y="63244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>
            <a:hlinkClick r:id="rId2"/>
          </p:cNvPr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noFill/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>
            <a:hlinkClick r:id="" action="ppaction://hlinkshowjump?jump=nextslide"/>
          </p:cNvPr>
          <p:cNvSpPr/>
          <p:nvPr/>
        </p:nvSpPr>
        <p:spPr>
          <a:xfrm>
            <a:off x="533520" y="4724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noFill/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>
            <a:hlinkClick r:id="rId3"/>
          </p:cNvPr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noFill/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>
            <a:hlinkClick r:id="rId4"/>
          </p:cNvPr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noFill/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5" name="09.%20Who%20Correct.wav"/>
      </p:stSnd>
    </p:sndAc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0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0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0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0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0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0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0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0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533520" y="4724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cc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Maiandra GD"/>
              </a:rPr>
              <a:t>When the fire started people escaped to the…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4400" spc="-1" strike="noStrike">
                <a:solidFill>
                  <a:srgbClr val="ffffff"/>
                </a:solidFill>
                <a:latin typeface="Maiandra GD"/>
              </a:rPr>
              <a:t>Fores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4400" spc="-1" strike="noStrike">
                <a:solidFill>
                  <a:srgbClr val="ffffff"/>
                </a:solidFill>
                <a:latin typeface="Maiandra GD"/>
              </a:rPr>
              <a:t>Fa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Maiandra GD"/>
              </a:rPr>
              <a:t>Church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4400" spc="-1" strike="noStrike">
                <a:solidFill>
                  <a:srgbClr val="ffffff"/>
                </a:solidFill>
                <a:latin typeface="Maiandra GD"/>
              </a:rPr>
              <a:t>Sho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"/>
          <p:cNvSpPr/>
          <p:nvPr/>
        </p:nvSpPr>
        <p:spPr>
          <a:xfrm>
            <a:off x="609480" y="2514600"/>
            <a:ext cx="8001000" cy="1905120"/>
          </a:xfrm>
          <a:prstGeom prst="hexagon">
            <a:avLst>
              <a:gd name="adj" fmla="val 10266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ffff"/>
                </a:solidFill>
                <a:latin typeface="Maiandra GD"/>
              </a:rPr>
              <a:t>£8,000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 flipH="1">
            <a:off x="-360" y="35053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 flipH="1">
            <a:off x="8610480" y="35053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6" name="" descr=""/>
          <p:cNvPicPr/>
          <p:nvPr/>
        </p:nvPicPr>
        <p:blipFill>
          <a:blip r:embed="rId1"/>
          <a:stretch/>
        </p:blipFill>
        <p:spPr>
          <a:xfrm>
            <a:off x="6948360" y="3213000"/>
            <a:ext cx="1222560" cy="1011240"/>
          </a:xfrm>
          <a:prstGeom prst="rect">
            <a:avLst/>
          </a:prstGeom>
          <a:ln w="0">
            <a:noFill/>
          </a:ln>
        </p:spPr>
      </p:pic>
    </p:spTree>
  </p:cSld>
  <p:transition>
    <p:zoom dir="out"/>
    <p:sndAc>
      <p:stSnd>
        <p:snd r:embed="rId2" name="cashreg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Maiandra GD"/>
              </a:rPr>
              <a:t>When was the Great Fire of London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8686800" y="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8686800" y="63244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4400" spc="-1" strike="noStrike">
                <a:solidFill>
                  <a:srgbClr val="ffffff"/>
                </a:solidFill>
                <a:latin typeface="Maiandra GD"/>
              </a:rPr>
              <a:t>166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4400" spc="-1" strike="noStrike">
                <a:solidFill>
                  <a:srgbClr val="ffffff"/>
                </a:solidFill>
                <a:latin typeface="Maiandra GD"/>
              </a:rPr>
              <a:t>156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Maiandra GD"/>
              </a:rPr>
              <a:t>166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4400" spc="-1" strike="noStrike">
                <a:solidFill>
                  <a:srgbClr val="ffffff"/>
                </a:solidFill>
                <a:latin typeface="Maiandra GD"/>
              </a:rPr>
              <a:t>176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>
            <a:hlinkClick r:id="" action="ppaction://hlinkshowjump?jump=nextslide"/>
          </p:cNvPr>
          <p:cNvSpPr/>
          <p:nvPr/>
        </p:nvSpPr>
        <p:spPr>
          <a:xfrm>
            <a:off x="533520" y="4724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noFill/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>
            <a:hlinkClick r:id="rId1"/>
          </p:cNvPr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noFill/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>
            <a:hlinkClick r:id="rId2"/>
          </p:cNvPr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noFill/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>
            <a:hlinkClick r:id="rId3"/>
          </p:cNvPr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noFill/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3" name="" descr=""/>
          <p:cNvPicPr/>
          <p:nvPr/>
        </p:nvPicPr>
        <p:blipFill>
          <a:blip r:embed="rId4"/>
          <a:stretch/>
        </p:blipFill>
        <p:spPr>
          <a:xfrm>
            <a:off x="7432560" y="1557360"/>
            <a:ext cx="811440" cy="911160"/>
          </a:xfrm>
          <a:prstGeom prst="rect">
            <a:avLst/>
          </a:prstGeom>
          <a:ln w="0">
            <a:noFill/>
          </a:ln>
        </p:spPr>
      </p:pic>
    </p:spTree>
  </p:cSld>
  <p:transition>
    <p:zoom dir="out"/>
    <p:sndAc>
      <p:stSnd>
        <p:snd r:embed="rId5" name="09.%20Who%20Correct.wav"/>
      </p:stSnd>
    </p:sndAc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7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7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7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7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7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7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7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7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"/>
          <p:cNvSpPr/>
          <p:nvPr/>
        </p:nvSpPr>
        <p:spPr>
          <a:xfrm>
            <a:off x="609480" y="2057400"/>
            <a:ext cx="8001000" cy="2743200"/>
          </a:xfrm>
          <a:prstGeom prst="hexagon">
            <a:avLst>
              <a:gd name="adj" fmla="val 7130"/>
              <a:gd name="vf" fmla="val 115470"/>
            </a:avLst>
          </a:prstGeom>
          <a:noFill/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Maiandra GD"/>
              </a:rPr>
              <a:t>Question 8</a:t>
            </a:r>
            <a:endParaRPr b="0" lang="en-US" sz="8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79" name=""/>
          <p:cNvSpPr/>
          <p:nvPr/>
        </p:nvSpPr>
        <p:spPr>
          <a:xfrm flipH="1">
            <a:off x="-360" y="35053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 flipH="1">
            <a:off x="8610480" y="35053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drumroll.wav"/>
      </p:stSnd>
    </p:sndAc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">
            <a:hlinkClick r:id="rId1"/>
          </p:cNvPr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noFill/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Maiandra GD"/>
              </a:rPr>
              <a:t>People escaped to the churches because…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77662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4200" spc="-1" strike="noStrike">
                <a:solidFill>
                  <a:srgbClr val="ffffff"/>
                </a:solidFill>
                <a:latin typeface="Maiandra GD"/>
              </a:rPr>
              <a:t>it was very hot.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4200" spc="-1" strike="noStrike">
                <a:solidFill>
                  <a:srgbClr val="ffffff"/>
                </a:solidFill>
                <a:latin typeface="Maiandra GD"/>
              </a:rPr>
              <a:t>it was raining.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100" spc="-1" strike="noStrike">
                <a:solidFill>
                  <a:srgbClr val="ffffff"/>
                </a:solidFill>
                <a:latin typeface="Maiandra GD"/>
              </a:rPr>
              <a:t>churches were made of stone.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4100" spc="-1" strike="noStrike">
                <a:solidFill>
                  <a:srgbClr val="ffffff"/>
                </a:solidFill>
                <a:latin typeface="Maiandra GD"/>
              </a:rPr>
              <a:t>churches were made of wood.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8686800" y="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>
            <a:hlinkClick r:id="rId2" action="ppaction://hlinksldjump"/>
          </p:cNvPr>
          <p:cNvSpPr/>
          <p:nvPr/>
        </p:nvSpPr>
        <p:spPr>
          <a:xfrm>
            <a:off x="8686800" y="63244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>
            <a:hlinkClick r:id="rId3"/>
          </p:cNvPr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noFill/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>
            <a:hlinkClick r:id="" action="ppaction://hlinkshowjump?jump=nextslide"/>
          </p:cNvPr>
          <p:cNvSpPr/>
          <p:nvPr/>
        </p:nvSpPr>
        <p:spPr>
          <a:xfrm>
            <a:off x="533520" y="4724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noFill/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>
            <a:hlinkClick r:id="rId4"/>
          </p:cNvPr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noFill/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0" name="" descr=""/>
          <p:cNvPicPr/>
          <p:nvPr/>
        </p:nvPicPr>
        <p:blipFill>
          <a:blip r:embed="rId5"/>
          <a:stretch/>
        </p:blipFill>
        <p:spPr>
          <a:xfrm>
            <a:off x="7432560" y="1557360"/>
            <a:ext cx="811440" cy="911160"/>
          </a:xfrm>
          <a:prstGeom prst="rect">
            <a:avLst/>
          </a:prstGeom>
          <a:ln w="0">
            <a:noFill/>
          </a:ln>
        </p:spPr>
      </p:pic>
    </p:spTree>
  </p:cSld>
  <p:transition>
    <p:zoom dir="out"/>
    <p:sndAc>
      <p:stSnd>
        <p:snd r:embed="rId6" name="09.%20Who%20Correct.wav"/>
      </p:stSnd>
    </p:sndAc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0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0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0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0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0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0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0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0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533520" y="4724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cc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Maiandra GD"/>
              </a:rPr>
              <a:t>People escaped to the churches because…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77662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4200" spc="-1" strike="noStrike">
                <a:solidFill>
                  <a:srgbClr val="ffffff"/>
                </a:solidFill>
                <a:latin typeface="Maiandra GD"/>
              </a:rPr>
              <a:t>it was very hot.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4200" spc="-1" strike="noStrike">
                <a:solidFill>
                  <a:srgbClr val="ffffff"/>
                </a:solidFill>
                <a:latin typeface="Maiandra GD"/>
              </a:rPr>
              <a:t>it was raining.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100" spc="-1" strike="noStrike">
                <a:solidFill>
                  <a:srgbClr val="ffffff"/>
                </a:solidFill>
                <a:latin typeface="Maiandra GD"/>
              </a:rPr>
              <a:t>churches were made of stone.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4100" spc="-1" strike="noStrike">
                <a:solidFill>
                  <a:srgbClr val="ffffff"/>
                </a:solidFill>
                <a:latin typeface="Maiandra GD"/>
              </a:rPr>
              <a:t>churches were made of wood.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8" name="" descr=""/>
          <p:cNvPicPr/>
          <p:nvPr/>
        </p:nvPicPr>
        <p:blipFill>
          <a:blip r:embed="rId1"/>
          <a:stretch/>
        </p:blipFill>
        <p:spPr>
          <a:xfrm>
            <a:off x="7432560" y="1557360"/>
            <a:ext cx="811440" cy="911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"/>
          <p:cNvSpPr/>
          <p:nvPr/>
        </p:nvSpPr>
        <p:spPr>
          <a:xfrm>
            <a:off x="609480" y="2514600"/>
            <a:ext cx="8001000" cy="1905120"/>
          </a:xfrm>
          <a:prstGeom prst="hexagon">
            <a:avLst>
              <a:gd name="adj" fmla="val 10266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ffff"/>
                </a:solidFill>
                <a:latin typeface="Maiandra GD"/>
              </a:rPr>
              <a:t>£16,000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 flipH="1">
            <a:off x="-360" y="35053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 flipH="1">
            <a:off x="8610480" y="35053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3" name="" descr=""/>
          <p:cNvPicPr/>
          <p:nvPr/>
        </p:nvPicPr>
        <p:blipFill>
          <a:blip r:embed="rId1"/>
          <a:stretch/>
        </p:blipFill>
        <p:spPr>
          <a:xfrm>
            <a:off x="6948360" y="3213000"/>
            <a:ext cx="1222560" cy="1011240"/>
          </a:xfrm>
          <a:prstGeom prst="rect">
            <a:avLst/>
          </a:prstGeom>
          <a:ln w="0">
            <a:noFill/>
          </a:ln>
        </p:spPr>
      </p:pic>
    </p:spTree>
  </p:cSld>
  <p:transition>
    <p:zoom dir="out"/>
    <p:sndAc>
      <p:stSnd>
        <p:snd r:embed="rId2" name="cashreg.wav"/>
      </p:stSnd>
    </p:sndAc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"/>
          <p:cNvSpPr/>
          <p:nvPr/>
        </p:nvSpPr>
        <p:spPr>
          <a:xfrm>
            <a:off x="609480" y="2057400"/>
            <a:ext cx="8001000" cy="2743200"/>
          </a:xfrm>
          <a:prstGeom prst="hexagon">
            <a:avLst>
              <a:gd name="adj" fmla="val 7130"/>
              <a:gd name="vf" fmla="val 115470"/>
            </a:avLst>
          </a:prstGeom>
          <a:noFill/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Maiandra GD"/>
              </a:rPr>
              <a:t>Question 9</a:t>
            </a:r>
            <a:endParaRPr b="0" lang="en-US" sz="8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26" name=""/>
          <p:cNvSpPr/>
          <p:nvPr/>
        </p:nvSpPr>
        <p:spPr>
          <a:xfrm flipH="1">
            <a:off x="-360" y="35053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 flipH="1">
            <a:off x="8610480" y="35053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drumroll.wav"/>
      </p:stSnd>
    </p:sndAc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">
            <a:hlinkClick r:id="rId1"/>
          </p:cNvPr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noFill/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Maiandra GD"/>
              </a:rPr>
              <a:t>How many people died in the fire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4400" spc="-1" strike="noStrike">
                <a:solidFill>
                  <a:srgbClr val="ffffff"/>
                </a:solidFill>
                <a:latin typeface="Maiandra GD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4400" spc="-1" strike="noStrike">
                <a:solidFill>
                  <a:srgbClr val="ffffff"/>
                </a:solidFill>
                <a:latin typeface="Maiandra GD"/>
              </a:rPr>
              <a:t>1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Maiandra GD"/>
              </a:rPr>
              <a:t>6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4400" spc="-1" strike="noStrike">
                <a:solidFill>
                  <a:srgbClr val="ffffff"/>
                </a:solidFill>
                <a:latin typeface="Maiandra GD"/>
              </a:rPr>
              <a:t>6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8686800" y="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>
            <a:hlinkClick r:id="rId2" action="ppaction://hlinksldjump"/>
          </p:cNvPr>
          <p:cNvSpPr/>
          <p:nvPr/>
        </p:nvSpPr>
        <p:spPr>
          <a:xfrm>
            <a:off x="8686800" y="63244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>
            <a:hlinkClick r:id="rId3"/>
          </p:cNvPr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noFill/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>
            <a:hlinkClick r:id="rId4"/>
          </p:cNvPr>
          <p:cNvSpPr/>
          <p:nvPr/>
        </p:nvSpPr>
        <p:spPr>
          <a:xfrm>
            <a:off x="533520" y="4724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noFill/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>
            <a:hlinkClick r:id="" action="ppaction://hlinkshowjump?jump=nextslide"/>
          </p:cNvPr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noFill/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7" name="" descr=""/>
          <p:cNvPicPr/>
          <p:nvPr/>
        </p:nvPicPr>
        <p:blipFill>
          <a:blip r:embed="rId5"/>
          <a:stretch/>
        </p:blipFill>
        <p:spPr>
          <a:xfrm>
            <a:off x="7432560" y="1557360"/>
            <a:ext cx="811440" cy="911160"/>
          </a:xfrm>
          <a:prstGeom prst="rect">
            <a:avLst/>
          </a:prstGeom>
          <a:ln w="0">
            <a:noFill/>
          </a:ln>
        </p:spPr>
      </p:pic>
    </p:spTree>
  </p:cSld>
  <p:transition>
    <p:zoom dir="out"/>
    <p:sndAc>
      <p:stSnd>
        <p:snd r:embed="rId6" name="09.%20Who%20Correct.wav"/>
      </p:stSnd>
    </p:sndAc>
  </p:transition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"/>
          <p:cNvSpPr/>
          <p:nvPr/>
        </p:nvSpPr>
        <p:spPr>
          <a:xfrm>
            <a:off x="539640" y="4724280"/>
            <a:ext cx="8153640" cy="838440"/>
          </a:xfrm>
          <a:prstGeom prst="hexagon">
            <a:avLst>
              <a:gd name="adj" fmla="val 30885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539640" y="2735280"/>
            <a:ext cx="8153640" cy="838080"/>
          </a:xfrm>
          <a:prstGeom prst="hexagon">
            <a:avLst>
              <a:gd name="adj" fmla="val 30898"/>
              <a:gd name="vf" fmla="val 115470"/>
            </a:avLst>
          </a:prstGeom>
          <a:solidFill>
            <a:srgbClr val="00cc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Maiandra GD"/>
              </a:rPr>
              <a:t>How many people died in the fire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4400" spc="-1" strike="noStrike">
                <a:solidFill>
                  <a:srgbClr val="ffffff"/>
                </a:solidFill>
                <a:latin typeface="Maiandra GD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4400" spc="-1" strike="noStrike">
                <a:solidFill>
                  <a:srgbClr val="ffffff"/>
                </a:solidFill>
                <a:latin typeface="Maiandra GD"/>
              </a:rPr>
              <a:t>1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Maiandra GD"/>
              </a:rPr>
              <a:t>6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4400" spc="-1" strike="noStrike">
                <a:solidFill>
                  <a:srgbClr val="ffffff"/>
                </a:solidFill>
                <a:latin typeface="Maiandra GD"/>
              </a:rPr>
              <a:t>6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5" name="" descr=""/>
          <p:cNvPicPr/>
          <p:nvPr/>
        </p:nvPicPr>
        <p:blipFill>
          <a:blip r:embed="rId1"/>
          <a:stretch/>
        </p:blipFill>
        <p:spPr>
          <a:xfrm>
            <a:off x="7432560" y="1557360"/>
            <a:ext cx="811440" cy="911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"/>
          <p:cNvSpPr/>
          <p:nvPr/>
        </p:nvSpPr>
        <p:spPr>
          <a:xfrm>
            <a:off x="609480" y="2514600"/>
            <a:ext cx="8001000" cy="1905120"/>
          </a:xfrm>
          <a:prstGeom prst="hexagon">
            <a:avLst>
              <a:gd name="adj" fmla="val 10266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ffff"/>
                </a:solidFill>
                <a:latin typeface="Maiandra GD"/>
              </a:rPr>
              <a:t>£32,000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 flipH="1">
            <a:off x="-360" y="35053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 flipH="1">
            <a:off x="8610480" y="35053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0" name="" descr=""/>
          <p:cNvPicPr/>
          <p:nvPr/>
        </p:nvPicPr>
        <p:blipFill>
          <a:blip r:embed="rId1"/>
          <a:stretch/>
        </p:blipFill>
        <p:spPr>
          <a:xfrm>
            <a:off x="6948360" y="3213000"/>
            <a:ext cx="1222560" cy="1011240"/>
          </a:xfrm>
          <a:prstGeom prst="rect">
            <a:avLst/>
          </a:prstGeom>
          <a:ln w="0">
            <a:noFill/>
          </a:ln>
        </p:spPr>
      </p:pic>
    </p:spTree>
  </p:cSld>
  <p:transition>
    <p:zoom dir="out"/>
    <p:sndAc>
      <p:stSnd>
        <p:snd r:embed="rId2" name="cashreg.wav"/>
      </p:stSnd>
    </p:sndAc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"/>
          <p:cNvSpPr/>
          <p:nvPr/>
        </p:nvSpPr>
        <p:spPr>
          <a:xfrm>
            <a:off x="609480" y="2057400"/>
            <a:ext cx="8001000" cy="2743200"/>
          </a:xfrm>
          <a:prstGeom prst="hexagon">
            <a:avLst>
              <a:gd name="adj" fmla="val 7130"/>
              <a:gd name="vf" fmla="val 115470"/>
            </a:avLst>
          </a:prstGeom>
          <a:noFill/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Maiandra GD"/>
              </a:rPr>
              <a:t>Question 10</a:t>
            </a:r>
            <a:endParaRPr b="0" lang="en-US" sz="8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73" name=""/>
          <p:cNvSpPr/>
          <p:nvPr/>
        </p:nvSpPr>
        <p:spPr>
          <a:xfrm flipH="1">
            <a:off x="-360" y="35053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 flipH="1">
            <a:off x="8610480" y="35053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drumroll.wav"/>
      </p:stSnd>
    </p:sndAc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">
            <a:hlinkClick r:id="rId1"/>
          </p:cNvPr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noFill/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Maiandra GD"/>
              </a:rPr>
              <a:t>After the fire what did people decide to rebuild their houses with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4400" spc="-1" strike="noStrike">
                <a:solidFill>
                  <a:srgbClr val="ffffff"/>
                </a:solidFill>
                <a:latin typeface="Maiandra GD"/>
              </a:rPr>
              <a:t>Woo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4400" spc="-1" strike="noStrike">
                <a:solidFill>
                  <a:srgbClr val="ffffff"/>
                </a:solidFill>
                <a:latin typeface="Maiandra GD"/>
              </a:rPr>
              <a:t>Bricks and sto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Maiandra GD"/>
              </a:rPr>
              <a:t>Stra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4400" spc="-1" strike="noStrike">
                <a:solidFill>
                  <a:srgbClr val="ffffff"/>
                </a:solidFill>
                <a:latin typeface="Maiandra GD"/>
              </a:rPr>
              <a:t>Gla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8686800" y="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>
            <a:hlinkClick r:id="rId2" action="ppaction://hlinksldjump"/>
          </p:cNvPr>
          <p:cNvSpPr/>
          <p:nvPr/>
        </p:nvSpPr>
        <p:spPr>
          <a:xfrm>
            <a:off x="8686800" y="63244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>
            <a:hlinkClick r:id="" action="ppaction://hlinkshowjump?jump=nextslide"/>
          </p:cNvPr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noFill/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>
            <a:hlinkClick r:id="rId3"/>
          </p:cNvPr>
          <p:cNvSpPr/>
          <p:nvPr/>
        </p:nvSpPr>
        <p:spPr>
          <a:xfrm>
            <a:off x="533520" y="4724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noFill/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>
            <a:hlinkClick r:id="rId4"/>
          </p:cNvPr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noFill/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4" name="" descr=""/>
          <p:cNvPicPr/>
          <p:nvPr/>
        </p:nvPicPr>
        <p:blipFill>
          <a:blip r:embed="rId5"/>
          <a:stretch/>
        </p:blipFill>
        <p:spPr>
          <a:xfrm>
            <a:off x="7432560" y="1557360"/>
            <a:ext cx="811440" cy="911160"/>
          </a:xfrm>
          <a:prstGeom prst="rect">
            <a:avLst/>
          </a:prstGeom>
          <a:ln w="0">
            <a:noFill/>
          </a:ln>
        </p:spPr>
      </p:pic>
    </p:spTree>
  </p:cSld>
  <p:transition>
    <p:zoom dir="out"/>
    <p:sndAc>
      <p:stSnd>
        <p:snd r:embed="rId6" name="09.%20Who%20Correct.wav"/>
      </p:stSnd>
    </p:sndAc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"/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>
            <a:hlinkClick r:id="rId1"/>
          </p:cNvPr>
          <p:cNvSpPr/>
          <p:nvPr/>
        </p:nvSpPr>
        <p:spPr>
          <a:xfrm>
            <a:off x="533520" y="4724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cc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Maiandra GD"/>
              </a:rPr>
              <a:t>When was the Great Fire of London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4400" spc="-1" strike="noStrike">
                <a:solidFill>
                  <a:srgbClr val="ffffff"/>
                </a:solidFill>
                <a:latin typeface="Maiandra GD"/>
              </a:rPr>
              <a:t>166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4400" spc="-1" strike="noStrike">
                <a:solidFill>
                  <a:srgbClr val="ffffff"/>
                </a:solidFill>
                <a:latin typeface="Maiandra GD"/>
              </a:rPr>
              <a:t>156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Maiandra GD"/>
              </a:rPr>
              <a:t>166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4400" spc="-1" strike="noStrike">
                <a:solidFill>
                  <a:srgbClr val="ffffff"/>
                </a:solidFill>
                <a:latin typeface="Maiandra GD"/>
              </a:rPr>
              <a:t>176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noFill/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1" name="" descr=""/>
          <p:cNvPicPr/>
          <p:nvPr/>
        </p:nvPicPr>
        <p:blipFill>
          <a:blip r:embed="rId2"/>
          <a:stretch/>
        </p:blipFill>
        <p:spPr>
          <a:xfrm>
            <a:off x="7432560" y="1557360"/>
            <a:ext cx="811440" cy="911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533520" y="4724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533520" y="374328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cc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Maiandra GD"/>
              </a:rPr>
              <a:t>After the fire what did people decide to rebuild their houses with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4400" spc="-1" strike="noStrike">
                <a:solidFill>
                  <a:srgbClr val="ffffff"/>
                </a:solidFill>
                <a:latin typeface="Maiandra GD"/>
              </a:rPr>
              <a:t>Woo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4400" spc="-1" strike="noStrike">
                <a:solidFill>
                  <a:srgbClr val="ffffff"/>
                </a:solidFill>
                <a:latin typeface="Maiandra GD"/>
              </a:rPr>
              <a:t>Bricks and sto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Maiandra GD"/>
              </a:rPr>
              <a:t>Stra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4400" spc="-1" strike="noStrike">
                <a:solidFill>
                  <a:srgbClr val="ffffff"/>
                </a:solidFill>
                <a:latin typeface="Maiandra GD"/>
              </a:rPr>
              <a:t>Gla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2" name="" descr=""/>
          <p:cNvPicPr/>
          <p:nvPr/>
        </p:nvPicPr>
        <p:blipFill>
          <a:blip r:embed="rId1"/>
          <a:stretch/>
        </p:blipFill>
        <p:spPr>
          <a:xfrm>
            <a:off x="7432560" y="1557360"/>
            <a:ext cx="811440" cy="911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"/>
          <p:cNvSpPr/>
          <p:nvPr/>
        </p:nvSpPr>
        <p:spPr>
          <a:xfrm>
            <a:off x="609480" y="2514600"/>
            <a:ext cx="8001000" cy="1905120"/>
          </a:xfrm>
          <a:prstGeom prst="hexagon">
            <a:avLst>
              <a:gd name="adj" fmla="val 10266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ffff"/>
                </a:solidFill>
                <a:latin typeface="Maiandra GD"/>
              </a:rPr>
              <a:t>£64,000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 flipH="1">
            <a:off x="-360" y="35053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 flipH="1">
            <a:off x="8610480" y="35053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7" name="" descr=""/>
          <p:cNvPicPr/>
          <p:nvPr/>
        </p:nvPicPr>
        <p:blipFill>
          <a:blip r:embed="rId1"/>
          <a:stretch/>
        </p:blipFill>
        <p:spPr>
          <a:xfrm>
            <a:off x="6948360" y="3213000"/>
            <a:ext cx="1222560" cy="1011240"/>
          </a:xfrm>
          <a:prstGeom prst="rect">
            <a:avLst/>
          </a:prstGeom>
          <a:ln w="0">
            <a:noFill/>
          </a:ln>
        </p:spPr>
      </p:pic>
    </p:spTree>
  </p:cSld>
  <p:transition>
    <p:zoom dir="out"/>
    <p:sndAc>
      <p:stSnd>
        <p:snd r:embed="rId2" name="cashreg.wav"/>
      </p:stSnd>
    </p:sndAc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"/>
          <p:cNvSpPr/>
          <p:nvPr/>
        </p:nvSpPr>
        <p:spPr>
          <a:xfrm>
            <a:off x="609480" y="2057400"/>
            <a:ext cx="8001000" cy="2743200"/>
          </a:xfrm>
          <a:prstGeom prst="hexagon">
            <a:avLst>
              <a:gd name="adj" fmla="val 7130"/>
              <a:gd name="vf" fmla="val 115470"/>
            </a:avLst>
          </a:prstGeom>
          <a:noFill/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Maiandra GD"/>
              </a:rPr>
              <a:t>Question 11</a:t>
            </a:r>
            <a:endParaRPr b="0" lang="en-US" sz="8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20" name=""/>
          <p:cNvSpPr/>
          <p:nvPr/>
        </p:nvSpPr>
        <p:spPr>
          <a:xfrm flipH="1">
            <a:off x="-360" y="35053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 flipH="1">
            <a:off x="8610480" y="35053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drumroll.wav"/>
      </p:stSnd>
    </p:sndAc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Maiandra GD"/>
              </a:rPr>
              <a:t>How do we know about the fire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77662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4000" spc="-1" strike="noStrike">
                <a:solidFill>
                  <a:srgbClr val="ffffff"/>
                </a:solidFill>
                <a:latin typeface="Maiandra GD"/>
              </a:rPr>
              <a:t>People saw it in a movi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4000" spc="-1" strike="noStrike">
                <a:solidFill>
                  <a:srgbClr val="ffffff"/>
                </a:solidFill>
                <a:latin typeface="Maiandra GD"/>
              </a:rPr>
              <a:t>People saw it in their dream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Maiandra GD"/>
              </a:rPr>
              <a:t>People saw it in a cartoo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4000" spc="-1" strike="noStrike">
                <a:solidFill>
                  <a:srgbClr val="ffffff"/>
                </a:solidFill>
                <a:latin typeface="Maiandra GD"/>
              </a:rPr>
              <a:t>People saw it &amp; wrote about i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8686800" y="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>
            <a:hlinkClick r:id="rId1" action="ppaction://hlinksldjump"/>
          </p:cNvPr>
          <p:cNvSpPr/>
          <p:nvPr/>
        </p:nvSpPr>
        <p:spPr>
          <a:xfrm>
            <a:off x="8686800" y="63244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>
            <a:hlinkClick r:id="rId2"/>
          </p:cNvPr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noFill/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>
            <a:hlinkClick r:id="rId3"/>
          </p:cNvPr>
          <p:cNvSpPr/>
          <p:nvPr/>
        </p:nvSpPr>
        <p:spPr>
          <a:xfrm>
            <a:off x="533520" y="4724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noFill/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>
            <a:hlinkClick r:id="" action="ppaction://hlinkshowjump?jump=nextslide"/>
          </p:cNvPr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noFill/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>
            <a:hlinkClick r:id="rId4"/>
          </p:cNvPr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noFill/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1" name="" descr=""/>
          <p:cNvPicPr/>
          <p:nvPr/>
        </p:nvPicPr>
        <p:blipFill>
          <a:blip r:embed="rId5"/>
          <a:stretch/>
        </p:blipFill>
        <p:spPr>
          <a:xfrm>
            <a:off x="7432560" y="1557360"/>
            <a:ext cx="811440" cy="911160"/>
          </a:xfrm>
          <a:prstGeom prst="rect">
            <a:avLst/>
          </a:prstGeom>
          <a:ln w="0">
            <a:noFill/>
          </a:ln>
        </p:spPr>
      </p:pic>
    </p:spTree>
  </p:cSld>
  <p:transition>
    <p:zoom dir="out"/>
    <p:sndAc>
      <p:stSnd>
        <p:snd r:embed="rId6" name="09.%20Who%20Correct.wav"/>
      </p:stSnd>
    </p:sndAc>
  </p:transition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533520" y="573408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cc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533520" y="4724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Maiandra GD"/>
              </a:rPr>
              <a:t>How do we know about the fire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77662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4000" spc="-1" strike="noStrike">
                <a:solidFill>
                  <a:srgbClr val="ffffff"/>
                </a:solidFill>
                <a:latin typeface="Maiandra GD"/>
              </a:rPr>
              <a:t>People saw it in a movi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4000" spc="-1" strike="noStrike">
                <a:solidFill>
                  <a:srgbClr val="ffffff"/>
                </a:solidFill>
                <a:latin typeface="Maiandra GD"/>
              </a:rPr>
              <a:t>People saw it in their dream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Maiandra GD"/>
              </a:rPr>
              <a:t>People saw it in a cartoo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4000" spc="-1" strike="noStrike">
                <a:solidFill>
                  <a:srgbClr val="ffffff"/>
                </a:solidFill>
                <a:latin typeface="Maiandra GD"/>
              </a:rPr>
              <a:t>People saw it &amp; wrote about i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9" name="" descr=""/>
          <p:cNvPicPr/>
          <p:nvPr/>
        </p:nvPicPr>
        <p:blipFill>
          <a:blip r:embed="rId1"/>
          <a:stretch/>
        </p:blipFill>
        <p:spPr>
          <a:xfrm>
            <a:off x="7432560" y="1557360"/>
            <a:ext cx="811440" cy="911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"/>
          <p:cNvSpPr/>
          <p:nvPr/>
        </p:nvSpPr>
        <p:spPr>
          <a:xfrm>
            <a:off x="609480" y="2514600"/>
            <a:ext cx="8001000" cy="1905120"/>
          </a:xfrm>
          <a:prstGeom prst="hexagon">
            <a:avLst>
              <a:gd name="adj" fmla="val 10266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ffff"/>
                </a:solidFill>
                <a:latin typeface="Maiandra GD"/>
              </a:rPr>
              <a:t>£125,000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 flipH="1">
            <a:off x="-360" y="35053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 flipH="1">
            <a:off x="8610480" y="35053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4" name="" descr=""/>
          <p:cNvPicPr/>
          <p:nvPr/>
        </p:nvPicPr>
        <p:blipFill>
          <a:blip r:embed="rId1"/>
          <a:stretch/>
        </p:blipFill>
        <p:spPr>
          <a:xfrm>
            <a:off x="6948360" y="3213000"/>
            <a:ext cx="1222560" cy="1011240"/>
          </a:xfrm>
          <a:prstGeom prst="rect">
            <a:avLst/>
          </a:prstGeom>
          <a:ln w="0">
            <a:noFill/>
          </a:ln>
        </p:spPr>
      </p:pic>
    </p:spTree>
  </p:cSld>
  <p:transition>
    <p:zoom dir="out"/>
    <p:sndAc>
      <p:stSnd>
        <p:snd r:embed="rId2" name="cashreg.wav"/>
      </p:stSnd>
    </p:sndAc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"/>
          <p:cNvSpPr/>
          <p:nvPr/>
        </p:nvSpPr>
        <p:spPr>
          <a:xfrm>
            <a:off x="609480" y="2057400"/>
            <a:ext cx="8001000" cy="2743200"/>
          </a:xfrm>
          <a:prstGeom prst="hexagon">
            <a:avLst>
              <a:gd name="adj" fmla="val 7130"/>
              <a:gd name="vf" fmla="val 115470"/>
            </a:avLst>
          </a:prstGeom>
          <a:noFill/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Maiandra GD"/>
              </a:rPr>
              <a:t>Question 12</a:t>
            </a:r>
            <a:endParaRPr b="0" lang="en-US" sz="8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67" name=""/>
          <p:cNvSpPr/>
          <p:nvPr/>
        </p:nvSpPr>
        <p:spPr>
          <a:xfrm flipH="1">
            <a:off x="-360" y="35053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 flipH="1">
            <a:off x="8610480" y="35053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drumroll.wav"/>
      </p:stSnd>
    </p:sndAc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Maiandra GD"/>
              </a:rPr>
              <a:t>Who was Samuel Pepys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4400" spc="-1" strike="noStrike">
                <a:solidFill>
                  <a:srgbClr val="ffffff"/>
                </a:solidFill>
                <a:latin typeface="Maiandra GD"/>
              </a:rPr>
              <a:t>Sing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4400" spc="-1" strike="noStrike">
                <a:solidFill>
                  <a:srgbClr val="ffffff"/>
                </a:solidFill>
                <a:latin typeface="Maiandra GD"/>
              </a:rPr>
              <a:t>Act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Maiandra GD"/>
              </a:rPr>
              <a:t>Eyewitn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4400" spc="-1" strike="noStrike">
                <a:solidFill>
                  <a:srgbClr val="ffffff"/>
                </a:solidFill>
                <a:latin typeface="Maiandra GD"/>
              </a:rPr>
              <a:t>Shop keep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8686800" y="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8686800" y="63244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">
            <a:hlinkClick r:id="rId1"/>
          </p:cNvPr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noFill/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>
            <a:hlinkClick r:id="" action="ppaction://hlinkshowjump?jump=nextslide"/>
          </p:cNvPr>
          <p:cNvSpPr/>
          <p:nvPr/>
        </p:nvSpPr>
        <p:spPr>
          <a:xfrm>
            <a:off x="533520" y="4724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noFill/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>
            <a:hlinkClick r:id="rId2"/>
          </p:cNvPr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noFill/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>
            <a:hlinkClick r:id="rId3"/>
          </p:cNvPr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noFill/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8" name="" descr=""/>
          <p:cNvPicPr/>
          <p:nvPr/>
        </p:nvPicPr>
        <p:blipFill>
          <a:blip r:embed="rId4"/>
          <a:stretch/>
        </p:blipFill>
        <p:spPr>
          <a:xfrm>
            <a:off x="7559640" y="1700280"/>
            <a:ext cx="684360" cy="768240"/>
          </a:xfrm>
          <a:prstGeom prst="rect">
            <a:avLst/>
          </a:prstGeom>
          <a:ln w="0">
            <a:noFill/>
          </a:ln>
        </p:spPr>
      </p:pic>
    </p:spTree>
  </p:cSld>
  <p:transition>
    <p:zoom dir="out"/>
    <p:sndAc>
      <p:stSnd>
        <p:snd r:embed="rId5" name="09.%20Who%20Correct.wav"/>
      </p:stSnd>
    </p:sndAc>
  </p:transition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533520" y="4724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cc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Maiandra GD"/>
              </a:rPr>
              <a:t>Who was Samuel Pepys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4400" spc="-1" strike="noStrike">
                <a:solidFill>
                  <a:srgbClr val="ffffff"/>
                </a:solidFill>
                <a:latin typeface="Maiandra GD"/>
              </a:rPr>
              <a:t>Sing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4400" spc="-1" strike="noStrike">
                <a:solidFill>
                  <a:srgbClr val="ffffff"/>
                </a:solidFill>
                <a:latin typeface="Maiandra GD"/>
              </a:rPr>
              <a:t>Act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Maiandra GD"/>
              </a:rPr>
              <a:t>Eyewitn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4400" spc="-1" strike="noStrike">
                <a:solidFill>
                  <a:srgbClr val="ffffff"/>
                </a:solidFill>
                <a:latin typeface="Maiandra GD"/>
              </a:rPr>
              <a:t>Shop keep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6" name="" descr=""/>
          <p:cNvPicPr/>
          <p:nvPr/>
        </p:nvPicPr>
        <p:blipFill>
          <a:blip r:embed="rId1"/>
          <a:stretch/>
        </p:blipFill>
        <p:spPr>
          <a:xfrm>
            <a:off x="7559640" y="1700280"/>
            <a:ext cx="684360" cy="768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"/>
          <p:cNvSpPr/>
          <p:nvPr/>
        </p:nvSpPr>
        <p:spPr>
          <a:xfrm>
            <a:off x="609480" y="2514600"/>
            <a:ext cx="8001000" cy="1905120"/>
          </a:xfrm>
          <a:prstGeom prst="hexagon">
            <a:avLst>
              <a:gd name="adj" fmla="val 10266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ffff"/>
                </a:solidFill>
                <a:latin typeface="Maiandra GD"/>
              </a:rPr>
              <a:t>£250,000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 flipH="1">
            <a:off x="-360" y="35053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 flipH="1">
            <a:off x="8610480" y="35053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1" name="" descr=""/>
          <p:cNvPicPr/>
          <p:nvPr/>
        </p:nvPicPr>
        <p:blipFill>
          <a:blip r:embed="rId1"/>
          <a:stretch/>
        </p:blipFill>
        <p:spPr>
          <a:xfrm>
            <a:off x="6948360" y="3213000"/>
            <a:ext cx="1222560" cy="1011240"/>
          </a:xfrm>
          <a:prstGeom prst="rect">
            <a:avLst/>
          </a:prstGeom>
          <a:ln w="0">
            <a:noFill/>
          </a:ln>
        </p:spPr>
      </p:pic>
    </p:spTree>
  </p:cSld>
  <p:transition>
    <p:zoom dir="out"/>
    <p:sndAc>
      <p:stSnd>
        <p:snd r:embed="rId2" name="cashreg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"/>
          <p:cNvSpPr/>
          <p:nvPr/>
        </p:nvSpPr>
        <p:spPr>
          <a:xfrm>
            <a:off x="609480" y="2514600"/>
            <a:ext cx="8001000" cy="1905120"/>
          </a:xfrm>
          <a:prstGeom prst="hexagon">
            <a:avLst>
              <a:gd name="adj" fmla="val 10266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ffff"/>
                </a:solidFill>
                <a:latin typeface="Maiandra GD"/>
              </a:rPr>
              <a:t>£100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 flipH="1">
            <a:off x="-360" y="35053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 flipH="1">
            <a:off x="8610480" y="35053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6" name="" descr=""/>
          <p:cNvPicPr/>
          <p:nvPr/>
        </p:nvPicPr>
        <p:blipFill>
          <a:blip r:embed="rId1"/>
          <a:stretch/>
        </p:blipFill>
        <p:spPr>
          <a:xfrm>
            <a:off x="6948360" y="3213000"/>
            <a:ext cx="1222560" cy="1011240"/>
          </a:xfrm>
          <a:prstGeom prst="rect">
            <a:avLst/>
          </a:prstGeom>
          <a:ln w="0">
            <a:noFill/>
          </a:ln>
        </p:spPr>
      </p:pic>
    </p:spTree>
  </p:cSld>
  <p:transition>
    <p:zoom dir="out"/>
    <p:sndAc>
      <p:stSnd>
        <p:snd r:embed="rId2" name="cashreg.wav"/>
      </p:stSnd>
    </p:sndAc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"/>
          <p:cNvSpPr/>
          <p:nvPr/>
        </p:nvSpPr>
        <p:spPr>
          <a:xfrm>
            <a:off x="609480" y="2057400"/>
            <a:ext cx="8001000" cy="2743200"/>
          </a:xfrm>
          <a:prstGeom prst="hexagon">
            <a:avLst>
              <a:gd name="adj" fmla="val 7130"/>
              <a:gd name="vf" fmla="val 115470"/>
            </a:avLst>
          </a:prstGeom>
          <a:noFill/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Maiandra GD"/>
              </a:rPr>
              <a:t>Question 13</a:t>
            </a:r>
            <a:endParaRPr b="0" lang="en-US" sz="8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14" name=""/>
          <p:cNvSpPr/>
          <p:nvPr/>
        </p:nvSpPr>
        <p:spPr>
          <a:xfrm flipH="1">
            <a:off x="-360" y="35053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 flipH="1">
            <a:off x="8610480" y="35053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drumroll.wav"/>
      </p:stSnd>
    </p:sndAc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">
            <a:hlinkClick r:id="" action="ppaction://hlinkshowjump?jump=nextslide"/>
          </p:cNvPr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noFill/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Maiandra GD"/>
              </a:rPr>
              <a:t>What did Samuel Pepys write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4400" spc="-1" strike="noStrike">
                <a:solidFill>
                  <a:srgbClr val="ffffff"/>
                </a:solidFill>
                <a:latin typeface="Maiandra GD"/>
              </a:rPr>
              <a:t>Di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4400" spc="-1" strike="noStrike">
                <a:solidFill>
                  <a:srgbClr val="ffffff"/>
                </a:solidFill>
                <a:latin typeface="Maiandra GD"/>
              </a:rPr>
              <a:t>S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Maiandra GD"/>
              </a:rPr>
              <a:t>Lett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4400" spc="-1" strike="noStrike">
                <a:solidFill>
                  <a:srgbClr val="ffffff"/>
                </a:solidFill>
                <a:latin typeface="Maiandra GD"/>
              </a:rPr>
              <a:t>Po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8686800" y="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8686800" y="63244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>
            <a:hlinkClick r:id="rId1"/>
          </p:cNvPr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noFill/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>
            <a:hlinkClick r:id="rId2"/>
          </p:cNvPr>
          <p:cNvSpPr/>
          <p:nvPr/>
        </p:nvSpPr>
        <p:spPr>
          <a:xfrm>
            <a:off x="533520" y="4724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noFill/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>
            <a:hlinkClick r:id="rId3"/>
          </p:cNvPr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noFill/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5" name="" descr=""/>
          <p:cNvPicPr/>
          <p:nvPr/>
        </p:nvPicPr>
        <p:blipFill>
          <a:blip r:embed="rId4"/>
          <a:stretch/>
        </p:blipFill>
        <p:spPr>
          <a:xfrm>
            <a:off x="7432560" y="1557360"/>
            <a:ext cx="811440" cy="911160"/>
          </a:xfrm>
          <a:prstGeom prst="rect">
            <a:avLst/>
          </a:prstGeom>
          <a:ln w="0">
            <a:noFill/>
          </a:ln>
        </p:spPr>
      </p:pic>
    </p:spTree>
  </p:cSld>
  <p:transition>
    <p:zoom dir="out"/>
    <p:sndAc>
      <p:stSnd>
        <p:snd r:embed="rId5" name="09.%20Who%20Correct.wav"/>
      </p:stSnd>
    </p:sndAc>
  </p:transition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"/>
          <p:cNvSpPr/>
          <p:nvPr/>
        </p:nvSpPr>
        <p:spPr>
          <a:xfrm>
            <a:off x="533520" y="4724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539640" y="2735280"/>
            <a:ext cx="8153640" cy="838080"/>
          </a:xfrm>
          <a:prstGeom prst="hexagon">
            <a:avLst>
              <a:gd name="adj" fmla="val 30898"/>
              <a:gd name="vf" fmla="val 115470"/>
            </a:avLst>
          </a:prstGeom>
          <a:solidFill>
            <a:srgbClr val="00cc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Maiandra GD"/>
              </a:rPr>
              <a:t>What did Samuel Pepys write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4400" spc="-1" strike="noStrike">
                <a:solidFill>
                  <a:srgbClr val="ffffff"/>
                </a:solidFill>
                <a:latin typeface="Maiandra GD"/>
              </a:rPr>
              <a:t>Di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4400" spc="-1" strike="noStrike">
                <a:solidFill>
                  <a:srgbClr val="ffffff"/>
                </a:solidFill>
                <a:latin typeface="Maiandra GD"/>
              </a:rPr>
              <a:t>S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Maiandra GD"/>
              </a:rPr>
              <a:t>Lett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4400" spc="-1" strike="noStrike">
                <a:solidFill>
                  <a:srgbClr val="ffffff"/>
                </a:solidFill>
                <a:latin typeface="Maiandra GD"/>
              </a:rPr>
              <a:t>Po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3" name="" descr=""/>
          <p:cNvPicPr/>
          <p:nvPr/>
        </p:nvPicPr>
        <p:blipFill>
          <a:blip r:embed="rId1"/>
          <a:stretch/>
        </p:blipFill>
        <p:spPr>
          <a:xfrm>
            <a:off x="7432560" y="1557360"/>
            <a:ext cx="811440" cy="911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355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5332320" cy="396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6" name="" descr=""/>
            <p:cNvPicPr/>
            <p:nvPr/>
          </p:nvPicPr>
          <p:blipFill>
            <a:blip r:embed="rId2"/>
            <a:srcRect l="0" t="0" r="0" b="26912"/>
            <a:stretch/>
          </p:blipFill>
          <p:spPr>
            <a:xfrm>
              <a:off x="0" y="3962520"/>
              <a:ext cx="5332320" cy="289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7" name="" descr=""/>
            <p:cNvPicPr/>
            <p:nvPr/>
          </p:nvPicPr>
          <p:blipFill>
            <a:blip r:embed="rId3"/>
            <a:srcRect l="0" t="0" r="27039" b="0"/>
            <a:stretch/>
          </p:blipFill>
          <p:spPr>
            <a:xfrm>
              <a:off x="5315040" y="0"/>
              <a:ext cx="3828960" cy="396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8" name="" descr=""/>
            <p:cNvPicPr/>
            <p:nvPr/>
          </p:nvPicPr>
          <p:blipFill>
            <a:blip r:embed="rId4"/>
            <a:srcRect l="0" t="0" r="27039" b="26902"/>
            <a:stretch/>
          </p:blipFill>
          <p:spPr>
            <a:xfrm>
              <a:off x="5315040" y="3962520"/>
              <a:ext cx="3828960" cy="2895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59" name=""/>
          <p:cNvSpPr/>
          <p:nvPr/>
        </p:nvSpPr>
        <p:spPr>
          <a:xfrm>
            <a:off x="609480" y="2514600"/>
            <a:ext cx="8001000" cy="1905120"/>
          </a:xfrm>
          <a:prstGeom prst="hexagon">
            <a:avLst>
              <a:gd name="adj" fmla="val 10266"/>
              <a:gd name="vf" fmla="val 115470"/>
            </a:avLst>
          </a:prstGeom>
          <a:noFill/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ffff"/>
                </a:solidFill>
                <a:latin typeface="Maiandra GD"/>
              </a:rPr>
              <a:t>£1,000,000</a:t>
            </a:r>
            <a:endParaRPr b="0" lang="en-US" sz="8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1" name=""/>
          <p:cNvSpPr/>
          <p:nvPr/>
        </p:nvSpPr>
        <p:spPr>
          <a:xfrm flipH="1">
            <a:off x="-360" y="35053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 flipH="1">
            <a:off x="8610480" y="35053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5" name="cashreg.wav"/>
      </p:stSnd>
    </p:sndAc>
  </p:transition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0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withEffect" fill="hold" presetClass="entr" presetID="9" repeatCount="indefinite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ard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8" dur="2000"/>
                                        <p:tgtEl>
                                          <p:spTgt spid="1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autoRev="1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sting.wav"/>
                                        </p:tgtEl>
                                      </p:cMediaNode>
                                    </p:audio>
                                    <p:animScale>
                                      <p:cBhvr>
                                        <p:cTn id="380" dur="2000" fill="hold"/>
                                        <p:tgtEl>
                                          <p:spTgt spid="135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"/>
          <p:cNvSpPr/>
          <p:nvPr/>
        </p:nvSpPr>
        <p:spPr>
          <a:xfrm>
            <a:off x="609480" y="2057400"/>
            <a:ext cx="8001000" cy="2743200"/>
          </a:xfrm>
          <a:prstGeom prst="hexagon">
            <a:avLst>
              <a:gd name="adj" fmla="val 7130"/>
              <a:gd name="vf" fmla="val 115470"/>
            </a:avLst>
          </a:prstGeom>
          <a:noFill/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Maiandra GD"/>
              </a:rPr>
              <a:t>Question 2</a:t>
            </a:r>
            <a:endParaRPr b="0" lang="en-US" sz="8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99" name=""/>
          <p:cNvSpPr/>
          <p:nvPr/>
        </p:nvSpPr>
        <p:spPr>
          <a:xfrm flipH="1">
            <a:off x="-360" y="35053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 flipH="1">
            <a:off x="8610480" y="35053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drumroll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Maiandra GD"/>
              </a:rPr>
              <a:t>Where did the fire start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4400" spc="-1" strike="noStrike">
                <a:solidFill>
                  <a:srgbClr val="ffffff"/>
                </a:solidFill>
                <a:latin typeface="Maiandra GD"/>
              </a:rPr>
              <a:t>In a booksho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4400" spc="-1" strike="noStrike">
                <a:solidFill>
                  <a:srgbClr val="ffffff"/>
                </a:solidFill>
                <a:latin typeface="Maiandra GD"/>
              </a:rPr>
              <a:t>In a clothes sho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Maiandra GD"/>
              </a:rPr>
              <a:t>In a sweet sho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4400" spc="-1" strike="noStrike">
                <a:solidFill>
                  <a:srgbClr val="ffffff"/>
                </a:solidFill>
                <a:latin typeface="Maiandra GD"/>
              </a:rPr>
              <a:t>In a bakers sho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8686800" y="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8686800" y="63244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>
            <a:hlinkClick r:id="rId1"/>
          </p:cNvPr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noFill/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>
            <a:hlinkClick r:id="rId2"/>
          </p:cNvPr>
          <p:cNvSpPr/>
          <p:nvPr/>
        </p:nvSpPr>
        <p:spPr>
          <a:xfrm>
            <a:off x="533520" y="4724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noFill/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>
            <a:hlinkClick r:id="" action="ppaction://hlinkshowjump?jump=nextslide"/>
          </p:cNvPr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noFill/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>
            <a:hlinkClick r:id="rId3"/>
          </p:cNvPr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noFill/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0" name="" descr=""/>
          <p:cNvPicPr/>
          <p:nvPr/>
        </p:nvPicPr>
        <p:blipFill>
          <a:blip r:embed="rId4"/>
          <a:stretch/>
        </p:blipFill>
        <p:spPr>
          <a:xfrm>
            <a:off x="7559640" y="1700280"/>
            <a:ext cx="684360" cy="768240"/>
          </a:xfrm>
          <a:prstGeom prst="rect">
            <a:avLst/>
          </a:prstGeom>
          <a:ln w="0">
            <a:noFill/>
          </a:ln>
        </p:spPr>
      </p:pic>
    </p:spTree>
  </p:cSld>
  <p:transition>
    <p:zoom dir="out"/>
    <p:sndAc>
      <p:stSnd>
        <p:snd r:embed="rId5" name="09.%20Who%20Correct.wav"/>
      </p:stSnd>
    </p:sndAc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8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8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8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8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8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8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8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8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539640" y="5734080"/>
            <a:ext cx="8153640" cy="838080"/>
          </a:xfrm>
          <a:prstGeom prst="hexagon">
            <a:avLst>
              <a:gd name="adj" fmla="val 30898"/>
              <a:gd name="vf" fmla="val 115470"/>
            </a:avLst>
          </a:prstGeom>
          <a:solidFill>
            <a:srgbClr val="00cc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539640" y="4724280"/>
            <a:ext cx="8153640" cy="838440"/>
          </a:xfrm>
          <a:prstGeom prst="hexagon">
            <a:avLst>
              <a:gd name="adj" fmla="val 30885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Maiandra GD"/>
              </a:rPr>
              <a:t>Where did the fire start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4400" spc="-1" strike="noStrike">
                <a:solidFill>
                  <a:srgbClr val="ffffff"/>
                </a:solidFill>
                <a:latin typeface="Maiandra GD"/>
              </a:rPr>
              <a:t>In a booksho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4400" spc="-1" strike="noStrike">
                <a:solidFill>
                  <a:srgbClr val="ffffff"/>
                </a:solidFill>
                <a:latin typeface="Maiandra GD"/>
              </a:rPr>
              <a:t>In a clothes sho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Maiandra GD"/>
              </a:rPr>
              <a:t>In a sweet sho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4400" spc="-1" strike="noStrike">
                <a:solidFill>
                  <a:srgbClr val="ffffff"/>
                </a:solidFill>
                <a:latin typeface="Maiandra GD"/>
              </a:rPr>
              <a:t>In a bakers sho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8" name="" descr=""/>
          <p:cNvPicPr/>
          <p:nvPr/>
        </p:nvPicPr>
        <p:blipFill>
          <a:blip r:embed="rId1"/>
          <a:stretch/>
        </p:blipFill>
        <p:spPr>
          <a:xfrm>
            <a:off x="7559640" y="1700280"/>
            <a:ext cx="684360" cy="768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"/>
          <p:cNvSpPr/>
          <p:nvPr/>
        </p:nvSpPr>
        <p:spPr>
          <a:xfrm>
            <a:off x="609480" y="2514600"/>
            <a:ext cx="8001000" cy="1905120"/>
          </a:xfrm>
          <a:prstGeom prst="hexagon">
            <a:avLst>
              <a:gd name="adj" fmla="val 10266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ffff"/>
                </a:solidFill>
                <a:latin typeface="Maiandra GD"/>
              </a:rPr>
              <a:t>£200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 flipH="1">
            <a:off x="-360" y="35053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 flipH="1">
            <a:off x="8610480" y="35053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3" name="" descr=""/>
          <p:cNvPicPr/>
          <p:nvPr/>
        </p:nvPicPr>
        <p:blipFill>
          <a:blip r:embed="rId1"/>
          <a:stretch/>
        </p:blipFill>
        <p:spPr>
          <a:xfrm>
            <a:off x="6948360" y="3213000"/>
            <a:ext cx="1222560" cy="1011240"/>
          </a:xfrm>
          <a:prstGeom prst="rect">
            <a:avLst/>
          </a:prstGeom>
          <a:ln w="0">
            <a:noFill/>
          </a:ln>
        </p:spPr>
      </p:pic>
    </p:spTree>
  </p:cSld>
  <p:transition>
    <p:zoom dir="out"/>
    <p:sndAc>
      <p:stSnd>
        <p:snd r:embed="rId2" name="cashreg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0T13:35:24Z</dcterms:created>
  <dc:creator>STNG11</dc:creator>
  <dc:description/>
  <dc:language>en-US</dc:language>
  <cp:lastModifiedBy>Ineson</cp:lastModifiedBy>
  <dcterms:modified xsi:type="dcterms:W3CDTF">2011-06-19T08:36:53Z</dcterms:modified>
  <cp:revision>46</cp:revision>
  <dc:subject/>
  <dc:title>Who Wants To Be A Millionaire?  </dc:title>
</cp:coreProperties>
</file>